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52D-5819-4617-AE0B-452A59C0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03BD-7400-4005-95E1-547B4E45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B6A-84B9-43F4-8527-4FA7C077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B9DA-030C-4274-B9D8-573E17E52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532-4E98-4168-9375-B978590F3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3D5A-8E91-497D-BDC9-9E1EF072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C615-2B69-428F-8E18-CB4C4231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687C6-4156-40A8-8238-18323915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0779-4A5F-4CEE-BB56-4A9FCD85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A102-6505-4E61-9E1A-F6CD9242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2A0-4634-4865-AEE5-5302CBF0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EE3F-BA5F-4704-A8F2-C230DF8F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B903-05FC-45B5-B574-C8923C2B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4353-7745-4767-A959-CC31D7EB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6009-F785-4000-98F0-50946FD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DD2-6981-4380-ACA7-3AC54C66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44792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3995280"/>
            <a:ext cx="276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7693-C15F-40F5-A883-399D68B1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58E9-7B9A-47E1-A678-C1AAB6F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B7B0-5146-49D1-A870-D80A585F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1046-6210-4E48-9730-BB641AFD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472680"/>
            <a:ext cx="77929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BB6-2D18-4D08-AC4C-0B6670B5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601-DCDA-460A-B756-043A04D3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399528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582-AC31-4715-8789-26E23EDD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439560"/>
            <a:ext cx="779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447920"/>
            <a:ext cx="4183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95280"/>
            <a:ext cx="8574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B11-3CE1-4F01-A6DE-AC75C5F7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04640"/>
            <a:ext cx="438120" cy="47484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046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830160"/>
            <a:ext cx="422280" cy="47484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01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54200"/>
            <a:ext cx="560160" cy="422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970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87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477120"/>
            <a:ext cx="1828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438280" y="6477120"/>
            <a:ext cx="5943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534160" y="6477120"/>
            <a:ext cx="4251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192-77EA-40F0-AE59-BC7DC8C5F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533520"/>
            <a:ext cx="9009000" cy="1052280"/>
            <a:chOff x="0" y="5335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641160"/>
              <a:ext cx="711360" cy="474480"/>
              <a:chOff x="290520" y="6411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641160"/>
                <a:ext cx="437400" cy="47448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6411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063440"/>
              <a:ext cx="737640" cy="474480"/>
              <a:chOff x="414360" y="10634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063440"/>
                <a:ext cx="421560" cy="474480"/>
              </a:xfrm>
              <a:prstGeom prst="rect">
                <a:avLst/>
              </a:prstGeom>
              <a:solidFill>
                <a:srgbClr val="cc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0634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9903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533520"/>
              <a:ext cx="31680" cy="105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3546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42431-39E6-40F4-82ED-FA8144C166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Prague Arabic Dependency Treebank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54860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stitute of Formal and Applied Linguis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21337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ahoma"/>
                <a:ea typeface="Tahoma"/>
              </a:rPr>
              <a:t>MorphoTrees of Arabic and Their Annotation in the TrEd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0292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Otakar Smr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tr Pa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ADT-logo" descr=""/>
          <p:cNvPicPr/>
          <p:nvPr/>
        </p:nvPicPr>
        <p:blipFill>
          <a:blip r:embed="rId1"/>
          <a:stretch/>
        </p:blipFill>
        <p:spPr>
          <a:xfrm>
            <a:off x="762120" y="4191120"/>
            <a:ext cx="121896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Discussion and Conclus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6680"/>
            <a:ext cx="8574120" cy="46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ant in morphological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anno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ADT 1.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vides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148 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notated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ctional Morph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Prague Arabic Dependency Treebank: Development in Data and To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ts approximation is promising and welc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eature-Based Tag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ined on Penn ATB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3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major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part-of-speec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5 val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10.8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full tag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317 evidenced combina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9900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0.8–0.6%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rror rate in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in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3F2-4F7F-40FB-B15C-097706863B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… TrEd … ???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ean turning unorganized sets of complex morphological analyses into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hierarch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uitive, decision-efficient, multi-purpose, inter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, not limited to the language, nor the system of morphology, nor the levels, nor the 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ully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grammable graphical edito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tree-like graphs and an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xcell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uite of tools for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tc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process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local/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tical and tectogrammatical dependency anno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ewing and converting of Arabic phrase-structure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ing and merging of parser/tagger/human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7B57-B043-46EF-ACD6-422BB342E57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in TrEd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7320" y="1447920"/>
            <a:ext cx="1523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s with two types of t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re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iteria &amp; restric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matic decision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iding m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Vie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hor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Tahoma"/>
              </a:rPr>
              <a:t>c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keys &amp; mou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ist-ency che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cessing &amp; update macr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9234" t="19347" r="2362" b="7649"/>
          <a:stretch/>
        </p:blipFill>
        <p:spPr>
          <a:xfrm>
            <a:off x="1752480" y="1371600"/>
            <a:ext cx="7167600" cy="50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B78-E70B-49A4-B7A7-B42097B0DF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Arabic … the Question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there syntactic difference in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wfa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rā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′abā</a:t>
            </a:r>
            <a:r>
              <a:rPr b="0" i="1" lang="en-US" sz="2800" spc="-1" strike="noStrike">
                <a:solidFill>
                  <a:srgbClr val="cc00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ḥmad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nd 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s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′as′al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ahoma"/>
              </a:rPr>
              <a:t>wālida</a:t>
            </a:r>
            <a:r>
              <a:rPr b="0" i="1" lang="en-US" sz="2800" spc="-1" strike="noStrike">
                <a:solidFill>
                  <a:srgbClr val="ff9900"/>
                </a:solidFill>
                <a:latin typeface="Tahoma"/>
              </a:rPr>
              <a:t>hu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Is there morphological differen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nly difference is in the use of lexical units and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tical catego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unchanged, and morphology and syntax should clearly show th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fi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syntactic un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 How do we get back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word-form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rom the lexical units and tag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much does improper morphological reading disturb consequent syntactic represent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per in tags, lemmas, diacritics, or in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C978-4D59-47E7-80AD-C259214720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Reminder of the Terms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aphe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/ Phon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s capable of distinguishing mean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~ 40 letters, context-dependent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8 consonants, 6 vow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sition of graphemes / phon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derivational for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9320" y="1447920"/>
            <a:ext cx="421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unit representing some linguistic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of morp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jection of grammatical categor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k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ast syntactic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arer of a uniform vector of grammatical categ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0A3-607C-4047-B12B-BB5AFEF273C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Tim Buckwalter’s Morpholog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MorphoTre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gener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ased on the information provided by Buckwalter Arabic Morphological Analy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Updateable stem-based lexicon, finite-state model, implementation in Perl and published under GNU G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phs,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nly to </a:t>
            </a:r>
            <a:r>
              <a:rPr b="0" lang="en-US" sz="2000" spc="-1" strike="noStrike">
                <a:solidFill>
                  <a:srgbClr val="9900cc"/>
                </a:solidFill>
                <a:latin typeface="Tahoma"/>
              </a:rPr>
              <a:t>Quasi-Functional Morph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modeling of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condit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wabijAnibihA) [jAnib_1] wa/CONJ + bi/PREP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nib/NOUN + i/CASE_DEF_GEN + hA/POSS_PRON_3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09480" y="4629240"/>
          <a:ext cx="7925040" cy="1685880"/>
        </p:xfrm>
        <a:graphic>
          <a:graphicData uri="http://schemas.openxmlformats.org/drawingml/2006/table">
            <a:tbl>
              <a:tblPr/>
              <a:tblGrid>
                <a:gridCol w="1981440"/>
                <a:gridCol w="1523880"/>
                <a:gridCol w="3105000"/>
                <a:gridCol w="1314720"/>
              </a:tblGrid>
              <a:tr h="489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w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CON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-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-------2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jAnib+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NOUN+CASE_DEF_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ide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S----3FS2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ahoma"/>
                        </a:rPr>
                        <a:t>POSS_PRON_3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BEB-5D67-4936-A170-162CB40185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Xerox Morphological Analyzer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4935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4419-DEEB-4D5F-BA4D-7E005CE8E28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Hierarchy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rphoTre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rabic propose thes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Ent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the analyzed elements of the discou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tioning to the standard forms of the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vocalized standard orthographical fo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s/identifiers of lexical un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syntactic units including the form and the t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epen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n the language /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/different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nclusion of spelling variation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otation of various tagsets, other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featur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oke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decision-ma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a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etween analyses becomes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recog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120A-5E4E-466A-A7EE-F07483766E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47268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Tahoma"/>
              </a:rPr>
              <a:t>MorphoTrees Annotation</a:t>
            </a:r>
            <a:endParaRPr b="1" lang="en-US" sz="3600" spc="-1" strike="noStrike">
              <a:solidFill>
                <a:srgbClr val="9900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74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lecting the le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at correspond to the proper reading of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toke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ituting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use of keyboard and/or mouse for anno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tricting the tre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ccording to the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criteria/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quired by the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control over the </a:t>
            </a:r>
            <a:r>
              <a:rPr b="0" lang="en-US" sz="2400" spc="-1" strike="noStrike">
                <a:solidFill>
                  <a:srgbClr val="9900cc"/>
                </a:solidFill>
                <a:latin typeface="Tahoma"/>
              </a:rPr>
              <a:t>inheritance of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ploying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estrictions and annotation actions, both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generi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lingu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about 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criminative catego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Tahoma"/>
              </a:rPr>
              <a:t>“human tagging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rphoTrees of Arabic and Their Annotation in the TrEd Environm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3EE-3FB8-4A8B-A9FB-0A2F7173F1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2,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42:29Z</dcterms:modified>
  <cp:revision>111</cp:revision>
  <dc:subject/>
  <dc:title>Prezentace aplikace PowerPoint</dc:title>
</cp:coreProperties>
</file>