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237-AD39-4FB1-9747-38013A7F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6FD-5FCD-4153-8FF7-654F4FC6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4FE-9AC2-4689-850E-A75BAD89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FD1-D984-41E3-894F-F51AA639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2FA-A2A3-4E06-BF6C-4A92415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899-60F5-4919-819A-608710B8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2B3-B0E1-42A4-8C89-E2FA2E91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62E5-2DCA-4816-A376-3B2EAA5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6E9F-4CBB-4354-9AF4-4BA3374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0F91-A5A1-4FFC-82DA-89F20883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960D-266A-4055-9CF8-4988A0C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99F-B874-47BB-86FF-97EEC90F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2998-899B-478D-94F6-5C4197B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51C0-AD51-4E05-BC5D-A836D94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C36B-8736-4CB9-82DA-9826392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8F98-1EE5-4610-A72D-CCD9EEC5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2C0-2725-4CB0-B346-44309130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8AF-A59F-4909-BF24-A2E7E460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411-9CB1-4E39-A613-749BF45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2C1-BF70-464A-A0A4-3BF1147A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DD1-617E-4835-852E-0B3F29B3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229-9584-48E4-9928-F0CC341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A5E-5091-40FA-9139-F5B122A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793-EC14-4A81-95D6-C524875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04640"/>
            <a:ext cx="438120" cy="4748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046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830160"/>
            <a:ext cx="422280" cy="4748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54200"/>
            <a:ext cx="560160" cy="422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970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438280" y="64771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477120"/>
            <a:ext cx="425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337-0B16-4096-B755-213A980C6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cc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3BDE-5871-4BA2-891D-01FD5A52D0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Prague Arabic Dependency Treebank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54860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e of Formal and Applied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ahoma"/>
                <a:ea typeface="Tahoma"/>
              </a:rPr>
              <a:t>MorphoTrees of Arabic and Their Annotation in the TrEd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takar Sm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tr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ADT-logo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21896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Discussion and Conclus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6680"/>
            <a:ext cx="85741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ant in morphological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anno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ADT 1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148 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notated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al Morph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rague Arabic Dependency Treebank: Development in Data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ts approximation is promising and 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-Based Ta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ined on Penn ATB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3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major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part-of-spee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5 val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10.8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ll tag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317 evidenced combina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0.8–0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3B0-F0E0-4376-8F90-072884DB7A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… TrEd … ???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an turning unorganized sets of complex morphological analyses into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hierarc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uitive, decision-efficient, multi-purpose,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not limited to the language, nor the system of morphology, nor the levels, nor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ull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grammable graphical edi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ree-like graphs and a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te of tools fo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tc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ces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ocal/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tical and tectogrammatical dependency an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ing and converting of Arabic phrase-structure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and merging of parser/tagger/human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3DF-F2AA-4B5B-B755-9F90845B2D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in TrEd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320" y="1447920"/>
            <a:ext cx="1523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s with two types of t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r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iteria &amp; restri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ic decis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iding m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ho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c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keys &amp; mo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-ency che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ing &amp; update mac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234" t="19347" r="2362" b="7649"/>
          <a:stretch/>
        </p:blipFill>
        <p:spPr>
          <a:xfrm>
            <a:off x="1752480" y="1371600"/>
            <a:ext cx="71676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877-422F-4EE3-86CF-CFB883486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Arabic … the Question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syntactic difference in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wf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rā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′abā</a:t>
            </a:r>
            <a:r>
              <a:rPr b="0" i="1" lang="en-US" sz="2800" spc="-1" strike="noStrike">
                <a:solidFill>
                  <a:srgbClr val="cc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ḥm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s′al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ālid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h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Is there morphological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nly difference is in the use of lexical units and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tical catego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unchanged, and morphology and syntax should clearly show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fi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syntactic un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How do we get back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word-fo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lexical units and tag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oes improper morphological reading disturb consequent syntactic repres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 in tags, lemmas, diacritics, or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A33-0747-4764-8D14-8CF7CA2654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Reminder of the Term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e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Phon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s capable of distinguishing mean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 40 letters, context-dependent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consonants, 6 vow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 of graphemes / phon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derivational fo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9320" y="1447920"/>
            <a:ext cx="421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 representing some linguistic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f mor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on of grammatical catego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syntactic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arer of a uniform vector of grammatical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2B0-1E67-454A-BE01-45CE4715D946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Tim Buckwalter’s Morpholog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oTre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gener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d on the information provided by Buckwalter Arabic Morphological Analy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Updateable stem-based lexicon, finite-state model, implementation in Perl and published under GNU G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phs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ly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Quasi-Functional Morph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odeling of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ondit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abijAnibihA) [jAnib_1] wa/CONJ + bi/PREP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nib/NOUN + i/CASE_DEF_GEN + hA/POSS_PRON_3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4629240"/>
          <a:ext cx="7925040" cy="1685880"/>
        </p:xfrm>
        <a:graphic>
          <a:graphicData uri="http://schemas.openxmlformats.org/drawingml/2006/table">
            <a:tbl>
              <a:tblPr/>
              <a:tblGrid>
                <a:gridCol w="1981440"/>
                <a:gridCol w="1523880"/>
                <a:gridCol w="3105000"/>
                <a:gridCol w="1314720"/>
              </a:tblGrid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O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-------2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jAnib+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OUN+CASE_DEF_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d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S----3FS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OSS_PRON_3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D3B-CC3F-49BA-838C-9FF70279C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Xerox Morphological Analyzer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9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1CB-C05E-4916-B1DD-88E9CFE35C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Hierarch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rabic propose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nt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he analyzed elements of the dis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ing to the standard forms of the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calized standard orthograph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s/identifiers of lexic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yntactic units including the form and th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language /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/differen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sion of spelling variation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 of various tagsets, other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ecision-m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analyses becom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recog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63A-9431-4D2C-82A8-F65F2A6629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Annotat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ng the le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orrespond to the proper reading of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ituting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use of keyboard and/or mouse for an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ing the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ording to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criteria/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the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control over 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inheritance of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trictions and annotation actions, bot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bou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riminative 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“human tagg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E29-E5E5-4E66-896D-2C80A7B17C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42:29Z</dcterms:modified>
  <cp:revision>111</cp:revision>
  <dc:subject/>
  <dc:title>Prezentace aplikace PowerPoint</dc:title>
</cp:coreProperties>
</file>