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2CC-CD70-48B5-8002-3CF92C0B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F4C-D427-495F-8516-B8CC8C59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C45-BF4D-4B87-A0CB-BCC998DF3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8BD-97DB-4910-8E61-9E821BB2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4AB-B659-4142-9F51-C398BCA8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3D92-FA32-451C-AD28-03381B78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7945-A1AB-4BCA-B76A-90E4376A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37C3-ECA2-444B-88AE-A7B5396A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5630-6227-4ECB-806A-E532EA8F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33B2-E05F-4AA8-8038-B1BB8147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29E4-7B4B-40D5-8719-FBE1B51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CE5-C248-409B-8A96-E41DF518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9FE9-CC64-4AB5-9A81-D571D68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D252-6514-4E6F-BAE5-1961C6F5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CF24-5A3B-4D34-B1CA-0D95005A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75DD-42F3-4D19-8A11-E15887EE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FF86-7850-40A1-97D3-90D81F17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1DA-5968-4194-9015-E0AE180D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5C1-1E3B-4176-9D2F-1C1E98D1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402-8F0F-4609-883B-B8DF5996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DFB7-FCD8-4DB1-BC50-AACFF5A3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29E1-B260-4D54-A5B7-CB2824FE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1C5-774B-4D72-A434-5A97A4C9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727-08B7-4D52-87CB-4BC17C8E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04640"/>
            <a:ext cx="438120" cy="4748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046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830160"/>
            <a:ext cx="422280" cy="4748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54200"/>
            <a:ext cx="560160" cy="422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970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438280" y="64771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477120"/>
            <a:ext cx="425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9F9F-9338-4FFE-B349-A5C8E8ED1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cc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15DF-87ED-423E-A75F-2803E742D4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Prague Arabic Dependency Treebank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54860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e of Formal and Applied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ahoma"/>
                <a:ea typeface="Tahoma"/>
              </a:rPr>
              <a:t>MorphoTrees of Arabic and Their Annotation in the TrEd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takar Sm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tr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ADT-logo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21896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Discussion and Conclus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6680"/>
            <a:ext cx="85741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ant in morphological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anno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ADT 1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148 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notated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al Morph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rague Arabic Dependency Treebank: Development in Data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ts approximation is promising and 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-Based Ta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ined on Penn ATB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3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major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part-of-spee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5 val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10.8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ll tag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317 evidenced combina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0.8–0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E75-20F5-443B-89C3-D094216F8DA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… TrEd … ???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an turning unorganized sets of complex morphological analyses into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hierarc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uitive, decision-efficient, multi-purpose,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not limited to the language, nor the system of morphology, nor the levels, nor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ull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grammable graphical edi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ree-like graphs and a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te of tools fo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tc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ces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ocal/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tical and tectogrammatical dependency an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ing and converting of Arabic phrase-structure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and merging of parser/tagger/human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D52C-A205-4EE8-A119-98445F5FD7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in TrEd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320" y="1447920"/>
            <a:ext cx="1523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s with two types of t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r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iteria &amp; restri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ic decis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iding m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ho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c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keys &amp; mo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-ency che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ing &amp; update mac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234" t="19347" r="2362" b="7649"/>
          <a:stretch/>
        </p:blipFill>
        <p:spPr>
          <a:xfrm>
            <a:off x="1752480" y="1371600"/>
            <a:ext cx="71676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0DA-F8E4-4279-855A-0BC55214971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Arabic … the Question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syntactic difference in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wf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rā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′abā</a:t>
            </a:r>
            <a:r>
              <a:rPr b="0" i="1" lang="en-US" sz="2800" spc="-1" strike="noStrike">
                <a:solidFill>
                  <a:srgbClr val="cc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ḥm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s′al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ālid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h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Is there morphological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nly difference is in the use of lexical units and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tical catego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unchanged, and morphology and syntax should clearly show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fi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syntactic un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How do we get back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word-fo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lexical units and tag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oes improper morphological reading disturb consequent syntactic repres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 in tags, lemmas, diacritics, or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51A-8772-40C3-B78A-8E8EAA83CE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Reminder of the Term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e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Phon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s capable of distinguishing mean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 40 letters, context-dependent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consonants, 6 vow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 of graphemes / phon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derivational fo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9320" y="1447920"/>
            <a:ext cx="421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 representing some linguistic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f mor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on of grammatical catego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syntactic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arer of a uniform vector of grammatical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F53C-3258-42AD-90CB-61E8E0626A48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Tim Buckwalter’s Morpholog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oTre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gener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d on the information provided by Buckwalter Arabic Morphological Analy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Updateable stem-based lexicon, finite-state model, implementation in Perl and published under GNU G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phs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ly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Quasi-Functional Morph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odeling of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ondit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abijAnibihA) [jAnib_1] wa/CONJ + bi/PREP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nib/NOUN + i/CASE_DEF_GEN + hA/POSS_PRON_3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4629240"/>
          <a:ext cx="7925040" cy="1685880"/>
        </p:xfrm>
        <a:graphic>
          <a:graphicData uri="http://schemas.openxmlformats.org/drawingml/2006/table">
            <a:tbl>
              <a:tblPr/>
              <a:tblGrid>
                <a:gridCol w="1981440"/>
                <a:gridCol w="1523880"/>
                <a:gridCol w="3105000"/>
                <a:gridCol w="1314720"/>
              </a:tblGrid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O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-------2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jAnib+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OUN+CASE_DEF_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d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S----3FS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OSS_PRON_3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E41-9000-4362-AC22-E8DE2E018D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Xerox Morphological Analyzer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9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61D-2C28-4D24-948F-41ADF1C0D29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Hierarch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rabic propose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nt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he analyzed elements of the dis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ing to the standard forms of the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calized standard orthograph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s/identifiers of lexic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yntactic units including the form and th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language /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/differen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sion of spelling variation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 of various tagsets, other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ecision-m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analyses becom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recog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597-58E5-4AFE-B07D-3699125F64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Annotat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ng the le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orrespond to the proper reading of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ituting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use of keyboard and/or mouse for an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ing the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ording to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criteria/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the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control over 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inheritance of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trictions and annotation actions, bot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bou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riminative 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“human tagg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F2B-6038-4960-ADDE-9CE1456D19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42:46Z</dcterms:modified>
  <cp:revision>111</cp:revision>
  <dc:subject/>
  <dc:title>Prezentace aplikace PowerPoint</dc:title>
</cp:coreProperties>
</file>