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2E2F-013F-4EFB-BD63-13DB8D93E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74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840" y="3995280"/>
            <a:ext cx="8574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37AD-686C-4630-8BC7-5467D68A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50280" y="144792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399528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50280" y="399528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4F12-EB4E-48C7-876C-C59667901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76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55560" y="1447920"/>
            <a:ext cx="276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54640" y="1447920"/>
            <a:ext cx="276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6840" y="3995280"/>
            <a:ext cx="276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55560" y="3995280"/>
            <a:ext cx="276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54640" y="3995280"/>
            <a:ext cx="276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321B-AF4F-4EF2-BD00-5485BAED6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6984-6860-4540-A268-071752448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5741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6371-387D-4F03-AA22-5705E858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74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98B90-016D-494E-8FF0-3EB1DF51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18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0280" y="1447920"/>
            <a:ext cx="418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965E7-D607-4DAE-97C5-F8B27275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FCD2-22B3-4DCC-B73C-FB84A136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47268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EF4F-3E66-4E6A-83DA-6CA741BA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50280" y="1447920"/>
            <a:ext cx="418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9528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04FA-4126-4879-A15B-C45C27FE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5741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0C99-011D-441B-A8F5-3DB4787F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18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50280" y="144792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50280" y="399528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382C-BEB2-496B-B186-961D5BA8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50280" y="144792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6840" y="3995280"/>
            <a:ext cx="8574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F6EFB-BE33-4AFD-AC67-B70F6CA7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74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6840" y="3995280"/>
            <a:ext cx="8574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A3DF-9969-4FA1-8561-75A7C716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50280" y="144792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399528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50280" y="399528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642B-0421-4CC2-A81F-E73FA78EF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76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55560" y="1447920"/>
            <a:ext cx="276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254640" y="1447920"/>
            <a:ext cx="276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6840" y="3995280"/>
            <a:ext cx="276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55560" y="3995280"/>
            <a:ext cx="276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254640" y="3995280"/>
            <a:ext cx="276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590E-D15F-48DC-8DC7-63D664F36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74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31BB-5408-4B27-837F-DB1D7A32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18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0280" y="1447920"/>
            <a:ext cx="418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20F2-C032-42BC-AE9E-BDD1CE02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D5AE-8FA8-44F4-8FEA-35DC3FDC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47268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0477-98DF-466E-9B5B-6AD8141E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0280" y="1447920"/>
            <a:ext cx="418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99528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46AF-50BE-42A2-BCAD-69B12E14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18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50280" y="144792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50280" y="399528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A067-1E7F-4D17-94D6-4B773A32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0280" y="144792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95280"/>
            <a:ext cx="8574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247B-7967-42AA-80CC-066A96E8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404640"/>
            <a:ext cx="438120" cy="47484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40464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830160"/>
            <a:ext cx="422280" cy="47484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83016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754200"/>
            <a:ext cx="560160" cy="422280"/>
          </a:xfrm>
          <a:prstGeom prst="rect">
            <a:avLst/>
          </a:prstGeom>
          <a:gradFill rotWithShape="0">
            <a:gsLst>
              <a:gs pos="0">
                <a:srgbClr val="cc00cc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297000"/>
            <a:ext cx="31680" cy="10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087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7268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574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00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00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28600" y="6477120"/>
            <a:ext cx="1828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438280" y="6477120"/>
            <a:ext cx="5943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534160" y="6477120"/>
            <a:ext cx="4251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9541-C34F-4239-98CE-EF9126AA4F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533520"/>
            <a:ext cx="9009000" cy="1052280"/>
            <a:chOff x="0" y="533520"/>
            <a:chExt cx="9009000" cy="105228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641160"/>
              <a:ext cx="711360" cy="474480"/>
              <a:chOff x="290520" y="64116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641160"/>
                <a:ext cx="437400" cy="474480"/>
              </a:xfrm>
              <a:prstGeom prst="rect">
                <a:avLst/>
              </a:pr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6411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1063440"/>
              <a:ext cx="737640" cy="474480"/>
              <a:chOff x="414360" y="106344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1063440"/>
                <a:ext cx="421560" cy="474480"/>
              </a:xfrm>
              <a:prstGeom prst="rect">
                <a:avLst/>
              </a:prstGeom>
              <a:solidFill>
                <a:srgbClr val="cc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10634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9903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cc00cc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533520"/>
              <a:ext cx="31680" cy="1052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13546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2D6F-4FE1-459A-8192-C01F4858BF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9900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00ff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900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</a:rPr>
              <a:t>Prague Arabic Dependency Treebank</a:t>
            </a: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548604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nter for Computational Linguis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stitute of Formal and Applied Linguis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harles University in Prag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21337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Tahoma"/>
                <a:ea typeface="Tahoma"/>
              </a:rPr>
              <a:t>MorphoTrees of Arabic and Their Annotation in the TrEd 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502920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Otakar Smr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tr Paj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ADT-logo" descr=""/>
          <p:cNvPicPr/>
          <p:nvPr/>
        </p:nvPicPr>
        <p:blipFill>
          <a:blip r:embed="rId1"/>
          <a:stretch/>
        </p:blipFill>
        <p:spPr>
          <a:xfrm>
            <a:off x="762120" y="4191120"/>
            <a:ext cx="1218960" cy="11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47268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</a:rPr>
              <a:t>Discussion and Conclusion</a:t>
            </a: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6680"/>
            <a:ext cx="857412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rphoTre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ant in morphological </a:t>
            </a: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anno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in </a:t>
            </a: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PADT 1.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vides </a:t>
            </a: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148 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notated toke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unctional Morph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in </a:t>
            </a: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Prague Arabic Dependency Treebank: Development in Data and T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ts approximation is promising and welco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eature-Based Tag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ined on Penn ATB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9900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3.6%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rror rate in major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part-of-speec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5 val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9900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10.8%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the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full tags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317 evidenced combination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9900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0.8–0.6%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rror rate in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tokeniz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the in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rphoTrees of Arabic and Their Annotation in the TrEd Environ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B1B2-A4F5-4C6A-8784-9211F2838DC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2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47268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</a:rPr>
              <a:t>MorphoTrees … TrEd … ???</a:t>
            </a: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74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rphoTre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ean turning unorganized sets of complex morphological analyses into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hierarch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uitive, decision-efficient, multi-purpose, inter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eneral, not limited to the language, nor the system of morphology, nor the levels, nor the imple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r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fully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programmable graphical edito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tree-like graphs and an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excell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uite of tools for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dat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atch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process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local/networ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ytical and tectogrammatical dependency anno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ewing and converting of Arabic phrase-structure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ing and merging of parser/tagger/human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rphoTrees of Arabic and Their Annotation in the TrEd Environ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3FC4-2CA4-4F9D-97EC-5A9042C5445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2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7268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</a:rPr>
              <a:t>MorphoTrees in TrEd</a:t>
            </a: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7320" y="1447920"/>
            <a:ext cx="15238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s with two types of t</a:t>
            </a: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re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iteria &amp; restrict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utomatic decision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iding mo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View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hor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cu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keys &amp; mou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ist-ency chec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cessing &amp; update macr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19234" t="19347" r="2362" b="7649"/>
          <a:stretch/>
        </p:blipFill>
        <p:spPr>
          <a:xfrm>
            <a:off x="1752480" y="1371600"/>
            <a:ext cx="7167600" cy="500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rphoTrees of Arabic and Their Annotation in the TrEd Environ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2BDE-594F-4BD2-A3C6-1C27BA48418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2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47268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</a:rPr>
              <a:t>Arabic … the Questions</a:t>
            </a: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74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there syntactic difference in 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sawfa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9900"/>
                </a:solidFill>
                <a:latin typeface="Tahoma"/>
              </a:rPr>
              <a:t>′arā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′abā</a:t>
            </a:r>
            <a:r>
              <a:rPr b="0" i="1" lang="en-US" sz="2800" spc="-1" strike="noStrike">
                <a:solidFill>
                  <a:srgbClr val="cc00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9900"/>
                </a:solidFill>
                <a:latin typeface="Tahoma"/>
              </a:rPr>
              <a:t>′Aḥmad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nd 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sa</a:t>
            </a:r>
            <a:r>
              <a:rPr b="0" i="1" lang="en-US" sz="2800" spc="-1" strike="noStrike">
                <a:solidFill>
                  <a:srgbClr val="ff9900"/>
                </a:solidFill>
                <a:latin typeface="Tahoma"/>
              </a:rPr>
              <a:t>′as′alu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wālida</a:t>
            </a:r>
            <a:r>
              <a:rPr b="0" i="1" lang="en-US" sz="2800" spc="-1" strike="noStrike">
                <a:solidFill>
                  <a:srgbClr val="ff9900"/>
                </a:solidFill>
                <a:latin typeface="Tahoma"/>
              </a:rPr>
              <a:t>hu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 Is there morphological differenc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only difference is in the use of lexical units and </a:t>
            </a: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morph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ammatical categor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e unchanged, and morphology and syntax should clearly show thi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do we find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syntactic uni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 How do we get back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word-form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rom the lexical units and tags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much does improper morphological reading disturb consequent syntactic representa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per in tags, lemmas, diacritics, or in </a:t>
            </a: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tokeniz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rphoTrees of Arabic and Their Annotation in the TrEd Environ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ED0A-AD7F-499A-BAC5-75AE52FED3F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2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47268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</a:rPr>
              <a:t>Reminder of the Terms</a:t>
            </a: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343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raphem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/ Phon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east units capable of distinguishing mean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~ 40 letters, context-dependent for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8 consonants, 6 vow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r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ition of graphemes / phone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 derivational for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9320" y="1447920"/>
            <a:ext cx="421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rp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east unit representing some linguistic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of morph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ction of grammatical categori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east syntactic un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arer of a uniform vector of grammatical catego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rphoTrees of Arabic and Their Annotation in the TrEd Environment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8B72-439D-4FCA-96F0-5EE83018EBF2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2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47268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</a:rPr>
              <a:t>Tim Buckwalter’s Morphology</a:t>
            </a: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74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DT </a:t>
            </a: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MorphoTre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e </a:t>
            </a: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genera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ased on the information provided by Buckwalter Arabic Morphological Analy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 Updateable stem-based lexicon, finite-state model, implementation in Perl and published under GNU GP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phs,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nly to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Quasi-Functional Morph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tokeniz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clust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modeling of </a:t>
            </a: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conditional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wabijAnibihA) [jAnib_1] wa/CONJ + bi/PREP +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nib/NOUN + i/CASE_DEF_GEN + hA/POSS_PRON_3F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09480" y="4629240"/>
          <a:ext cx="7925040" cy="1685880"/>
        </p:xfrm>
        <a:graphic>
          <a:graphicData uri="http://schemas.openxmlformats.org/drawingml/2006/table">
            <a:tbl>
              <a:tblPr/>
              <a:tblGrid>
                <a:gridCol w="1981440"/>
                <a:gridCol w="1523880"/>
                <a:gridCol w="3105000"/>
                <a:gridCol w="1314720"/>
              </a:tblGrid>
              <a:tr h="489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ahoma"/>
                        </a:rPr>
                        <a:t>C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ahoma"/>
                        </a:rPr>
                        <a:t>w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ahoma"/>
                        </a:rPr>
                        <a:t>CON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ahoma"/>
                        </a:rPr>
                        <a:t>P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ahoma"/>
                        </a:rPr>
                        <a:t>b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ahoma"/>
                        </a:rPr>
                        <a:t>P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ahoma"/>
                        </a:rPr>
                        <a:t>N-------2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ahoma"/>
                        </a:rPr>
                        <a:t>jAnib+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ahoma"/>
                        </a:rPr>
                        <a:t>NOUN+CASE_DEF_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de o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ahoma"/>
                        </a:rPr>
                        <a:t>S----3FS2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ahoma"/>
                        </a:rPr>
                        <a:t>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ahoma"/>
                        </a:rPr>
                        <a:t>POSS_PRON_3F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rphoTrees of Arabic and Their Annotation in the TrEd Environ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39C0-EB39-4444-B7C1-E027C335C17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2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47268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</a:rPr>
              <a:t>Xerox Morphological Analyzer</a:t>
            </a: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381880" cy="4935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rphoTrees of Arabic and Their Annotation in the TrEd Environm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3827-30F4-4080-8CEF-9D0D54F9DD2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2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47268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</a:rPr>
              <a:t>MorphoTrees Hierarchy</a:t>
            </a: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74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rphoTre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Arabic propose thes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Ent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the analyzed elements of the discou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tioning to the standard forms of the toke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vocalized standard orthographical for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mmas/identifiers of lexical un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Toke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syntactic units including the form and the t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epen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n the language /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/different </a:t>
            </a: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leve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nclusion of spelling variation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notation of various tagsets, other </a:t>
            </a: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featur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oke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decision-ma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ta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etween analyses becomes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recog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rphoTrees of Arabic and Their Annotation in the TrEd Environ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7CFB-780C-4F10-AE6C-B45BD41AA84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2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47268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</a:rPr>
              <a:t>MorphoTrees Annotation</a:t>
            </a: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74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lecting the leav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at correspond to the proper reading of the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toke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nstituting the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ck use of keyboard and/or mouse for anno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stricting the tre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ccording to the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criteria/categori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equired by the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tural control over the </a:t>
            </a: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inheritance of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ploying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estrictions and annotation actions, both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generi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lingu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rning about 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criminative categori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“human tagging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rphoTrees of Arabic and Their Annotation in the TrEd Environ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ED67-31EB-4F82-8C3D-A79C91C489F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2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6T16:06:52Z</dcterms:created>
  <dc:creator>Otakar Smrz</dc:creator>
  <dc:description/>
  <dc:language>en-US</dc:language>
  <cp:lastModifiedBy>Acer</cp:lastModifiedBy>
  <dcterms:modified xsi:type="dcterms:W3CDTF">2004-10-19T09:42:46Z</dcterms:modified>
  <cp:revision>111</cp:revision>
  <dc:subject/>
  <dc:title>Prezentace aplikace PowerPoint</dc:title>
</cp:coreProperties>
</file>