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F26-C775-4065-BDCD-BDB5D2B7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31B-AAD8-4FA5-A154-FA54FA5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99E-598F-4D62-8C58-FAB53F89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A23-C19D-43F9-B011-2937F0BA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F2C8-F9EB-409D-8825-64FFD362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B304-836F-45F2-B054-B6D76A40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0BAC-DE31-4ED8-8250-EA7F117B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7638-5072-478E-91F4-8AC95C75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14AA-FC6C-4070-9D36-80720D45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18900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1024-93EE-497F-B195-DFD7EB7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5962-D8B8-468E-803A-B43113D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48F-F38D-47C0-B293-4534E450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0664-6A41-4526-81ED-B8F1A75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80B0-2B6B-4011-9B5C-B3740719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F45D-94D9-4368-B8CF-FC9526D8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FE2D-A9D3-485F-BA15-13F96DA9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955E-2BF2-4C77-8174-EF6E1B66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85F-B37F-457A-B490-EA9630A8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DAD-19D9-47BB-8990-8E8D962D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9B0-0B77-4C24-9C63-139927E7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18900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C44-4389-4878-9BE5-D8792FE4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2D6-D2B7-43C8-994E-737D7600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C9C-37D4-42C2-987F-1A84A6D0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67D-C493-4DB5-BD5A-2C7B2EF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14144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093000"/>
            <a:ext cx="79250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16536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42920" y="6165360"/>
            <a:ext cx="403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16536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277-5FBC-4D97-9D04-01BAF278118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7191-63DA-4249-B7A7-BF6FB5EFE3B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4144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54840" y="4531320"/>
            <a:ext cx="2582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an Haji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č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takar Smr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ž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etr Zemánek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Šnaidauf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manuel Be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ADT-logo" descr=""/>
          <p:cNvPicPr/>
          <p:nvPr/>
        </p:nvPicPr>
        <p:blipFill>
          <a:blip r:embed="rId2"/>
          <a:stretch/>
        </p:blipFill>
        <p:spPr>
          <a:xfrm>
            <a:off x="657360" y="3787920"/>
            <a:ext cx="121572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0560" y="5021280"/>
            <a:ext cx="80773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ulty of Mathematics and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ulty of Philosophy and 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les 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46400" y="2544840"/>
            <a:ext cx="64260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Development in Data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an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49360"/>
            <a:ext cx="7542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ague Arabic Dependenc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ee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5040" y="6303960"/>
            <a:ext cx="79246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4221000"/>
            <a:ext cx="674640" cy="1059120"/>
          </a:xfrm>
          <a:custGeom>
            <a:avLst/>
            <a:gdLst/>
            <a:ahLst/>
            <a:rect l="l" t="t" r="r" b="b"/>
            <a:pathLst>
              <a:path w="425" h="667">
                <a:moveTo>
                  <a:pt x="0" y="0"/>
                </a:moveTo>
                <a:lnTo>
                  <a:pt x="425" y="667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4640" y="4221000"/>
            <a:ext cx="1592280" cy="1084320"/>
          </a:xfrm>
          <a:custGeom>
            <a:avLst/>
            <a:gdLst/>
            <a:ahLst/>
            <a:rect l="l" t="t" r="r" b="b"/>
            <a:pathLst>
              <a:path w="1003" h="683">
                <a:moveTo>
                  <a:pt x="0" y="0"/>
                </a:moveTo>
                <a:lnTo>
                  <a:pt x="1003" y="683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7360" y="4365720"/>
            <a:ext cx="1171440" cy="4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-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2640" y="5445000"/>
            <a:ext cx="978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u [</a:t>
            </a:r>
            <a:r>
              <a:rPr b="1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1000" y="5445000"/>
            <a:ext cx="1626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aytun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house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edication Types in Tre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1700280"/>
            <a:ext cx="474480" cy="660240"/>
          </a:xfrm>
          <a:custGeom>
            <a:avLst/>
            <a:gdLst/>
            <a:ahLst/>
            <a:rect l="l" t="t" r="r" b="b"/>
            <a:pathLst>
              <a:path w="299" h="416">
                <a:moveTo>
                  <a:pt x="0" y="0"/>
                </a:moveTo>
                <a:lnTo>
                  <a:pt x="299" y="41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8120" y="2360520"/>
            <a:ext cx="479520" cy="723960"/>
          </a:xfrm>
          <a:custGeom>
            <a:avLst/>
            <a:gdLst/>
            <a:ahLst/>
            <a:rect l="l" t="t" r="r" b="b"/>
            <a:pathLst>
              <a:path w="302" h="456">
                <a:moveTo>
                  <a:pt x="0" y="0"/>
                </a:moveTo>
                <a:lnTo>
                  <a:pt x="302" y="45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8120" y="2360520"/>
            <a:ext cx="1446480" cy="723960"/>
          </a:xfrm>
          <a:custGeom>
            <a:avLst/>
            <a:gdLst/>
            <a:ahLst/>
            <a:rect l="l" t="t" r="r" b="b"/>
            <a:pathLst>
              <a:path w="911" h="456">
                <a:moveTo>
                  <a:pt x="0" y="0"/>
                </a:moveTo>
                <a:lnTo>
                  <a:pt x="911" y="45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78120" y="2360520"/>
            <a:ext cx="3287880" cy="736560"/>
          </a:xfrm>
          <a:custGeom>
            <a:avLst/>
            <a:gdLst/>
            <a:ahLst/>
            <a:rect l="l" t="t" r="r" b="b"/>
            <a:pathLst>
              <a:path w="2071" h="464">
                <a:moveTo>
                  <a:pt x="0" y="0"/>
                </a:moveTo>
                <a:lnTo>
                  <a:pt x="2071" y="46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66000" y="3097080"/>
            <a:ext cx="496800" cy="679680"/>
          </a:xfrm>
          <a:custGeom>
            <a:avLst/>
            <a:gdLst/>
            <a:ahLst/>
            <a:rect l="l" t="t" r="r" b="b"/>
            <a:pathLst>
              <a:path w="313" h="428">
                <a:moveTo>
                  <a:pt x="0" y="0"/>
                </a:moveTo>
                <a:lnTo>
                  <a:pt x="313" y="428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3773520"/>
            <a:ext cx="586080" cy="774720"/>
          </a:xfrm>
          <a:custGeom>
            <a:avLst/>
            <a:gdLst/>
            <a:ahLst/>
            <a:rect l="l" t="t" r="r" b="b"/>
            <a:pathLst>
              <a:path w="369" h="488">
                <a:moveTo>
                  <a:pt x="0" y="0"/>
                </a:moveTo>
                <a:lnTo>
                  <a:pt x="369" y="488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16240" y="1700280"/>
            <a:ext cx="5343480" cy="664920"/>
          </a:xfrm>
          <a:custGeom>
            <a:avLst/>
            <a:gdLst/>
            <a:ahLst/>
            <a:rect l="l" t="t" r="r" b="b"/>
            <a:pathLst>
              <a:path w="3366" h="419">
                <a:moveTo>
                  <a:pt x="0" y="0"/>
                </a:moveTo>
                <a:lnTo>
                  <a:pt x="3366" y="419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13080" y="1747800"/>
            <a:ext cx="1370160" cy="504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a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1680" y="2428920"/>
            <a:ext cx="1365120" cy="452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iqtir</a:t>
            </a:r>
            <a:r>
              <a:rPr b="0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H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S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pos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24440" y="3168720"/>
            <a:ext cx="792000" cy="504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u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9520" y="3168720"/>
            <a:ext cx="2003400" cy="466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Ea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ata [</a:t>
            </a:r>
            <a:r>
              <a:rPr b="1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operation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05520" y="3168720"/>
            <a:ext cx="1252800" cy="415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ux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32440" y="3889440"/>
            <a:ext cx="1440000" cy="444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’i [</a:t>
            </a:r>
            <a:r>
              <a:rPr b="1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llea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29520" y="4392720"/>
            <a:ext cx="771480" cy="439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 [At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45360" y="2449440"/>
            <a:ext cx="1800360" cy="504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tayni [Ad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-hours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0920" y="1757520"/>
            <a:ext cx="361800" cy="726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2620800"/>
            <a:ext cx="1654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baytu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house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880" y="1901880"/>
            <a:ext cx="1752480" cy="415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un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no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</a:t>
            </a: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i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09960" y="3500280"/>
            <a:ext cx="1014120" cy="782640"/>
          </a:xfrm>
          <a:custGeom>
            <a:avLst/>
            <a:gdLst/>
            <a:ahLst/>
            <a:rect l="l" t="t" r="r" b="b"/>
            <a:pathLst>
              <a:path w="639" h="493">
                <a:moveTo>
                  <a:pt x="0" y="0"/>
                </a:moveTo>
                <a:lnTo>
                  <a:pt x="639" y="493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68920" y="4968720"/>
            <a:ext cx="1676520" cy="425520"/>
          </a:xfrm>
          <a:custGeom>
            <a:avLst/>
            <a:gdLst/>
            <a:ahLst/>
            <a:rect l="l" t="t" r="r" b="b"/>
            <a:pathLst>
              <a:path w="1056" h="268">
                <a:moveTo>
                  <a:pt x="0" y="0"/>
                </a:moveTo>
                <a:lnTo>
                  <a:pt x="1056" y="268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54520" y="4983120"/>
            <a:ext cx="930240" cy="411120"/>
          </a:xfrm>
          <a:custGeom>
            <a:avLst/>
            <a:gdLst/>
            <a:ahLst/>
            <a:rect l="l" t="t" r="r" b="b"/>
            <a:pathLst>
              <a:path w="586" h="259">
                <a:moveTo>
                  <a:pt x="586" y="0"/>
                </a:moveTo>
                <a:lnTo>
                  <a:pt x="0" y="259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578400"/>
            <a:ext cx="1727280" cy="5029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m~at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E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re-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724280"/>
            <a:ext cx="93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9640" y="5445000"/>
            <a:ext cx="1655640" cy="5112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madInat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v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c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gen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5445000"/>
            <a:ext cx="1873080" cy="5097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jAmiE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mosque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m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365720"/>
            <a:ext cx="1846080" cy="5032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dInatu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c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1908000" y="1699920"/>
            <a:ext cx="6912720" cy="3385080"/>
          </a:xfrm>
          <a:prstGeom prst="curvedConnector5">
            <a:avLst>
              <a:gd name="adj1" fmla="val 25998"/>
              <a:gd name="adj2" fmla="val 50000"/>
              <a:gd name="adj3" fmla="val 25998"/>
            </a:avLst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</a:ln>
        </p:spPr>
      </p:cxnSp>
      <p:sp>
        <p:nvSpPr>
          <p:cNvPr id="143" name=""/>
          <p:cNvSpPr/>
          <p:nvPr/>
        </p:nvSpPr>
        <p:spPr>
          <a:xfrm flipV="1">
            <a:off x="324000" y="2997000"/>
            <a:ext cx="3311280" cy="431640"/>
          </a:xfrm>
          <a:prstGeom prst="line">
            <a:avLst/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357720"/>
            <a:ext cx="2763720" cy="2625480"/>
          </a:xfrm>
          <a:custGeom>
            <a:avLst/>
            <a:gdLst/>
            <a:ahLst/>
            <a:rect l="l" t="t" r="r" b="b"/>
            <a:pathLst>
              <a:path w="1741" h="1654">
                <a:moveTo>
                  <a:pt x="0" y="0"/>
                </a:moveTo>
                <a:lnTo>
                  <a:pt x="1741" y="1654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2520" y="4349880"/>
            <a:ext cx="1293840" cy="131904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98680" y="1587600"/>
            <a:ext cx="1798560" cy="863640"/>
          </a:xfrm>
          <a:prstGeom prst="wedgeRectCallout">
            <a:avLst>
              <a:gd name="adj1" fmla="val -49027"/>
              <a:gd name="adj2" fmla="val 88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i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492280"/>
            <a:ext cx="1943280" cy="1081080"/>
          </a:xfrm>
          <a:prstGeom prst="wedgeRectCallout">
            <a:avLst>
              <a:gd name="adj1" fmla="val -53513"/>
              <a:gd name="adj2" fmla="val 96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posi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ossess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2852640"/>
            <a:ext cx="1798560" cy="863640"/>
          </a:xfrm>
          <a:prstGeom prst="wedgeRectCallout">
            <a:avLst>
              <a:gd name="adj1" fmla="val -49648"/>
              <a:gd name="adj2" fmla="val 91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stenti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038480"/>
            <a:ext cx="1798560" cy="1224000"/>
          </a:xfrm>
          <a:prstGeom prst="wedgeRectCallout">
            <a:avLst>
              <a:gd name="adj1" fmla="val 58384"/>
              <a:gd name="adj2" fmla="val 79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positio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adverbial,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locativ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1268280"/>
            <a:ext cx="1798560" cy="863640"/>
          </a:xfrm>
          <a:prstGeom prst="wedgeRectCallout">
            <a:avLst>
              <a:gd name="adj1" fmla="val -50972"/>
              <a:gd name="adj2" fmla="val 89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b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4572000"/>
            <a:ext cx="2303280" cy="1008000"/>
          </a:xfrm>
          <a:prstGeom prst="wedgeRectCallout">
            <a:avLst>
              <a:gd name="adj1" fmla="val 45384"/>
              <a:gd name="adj2" fmla="val -106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cc00"/>
                </a:solidFill>
                <a:latin typeface="Verdana"/>
              </a:rPr>
              <a:t>Verb-lik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cc00"/>
                </a:solidFill>
                <a:latin typeface="Verdana"/>
              </a:rPr>
              <a:t>behavi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object of noun?)</a:t>
            </a:r>
            <a:br>
              <a:rPr sz="16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186-CFEC-4B58-A9A9-760D418701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blem II: Clauses &amp; Co-re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27244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curs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subordinate clause is con-tained as subtree in place of simple el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ad-node of clause ge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he same fun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non-verbal structures – clauses or no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ound verbs 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 zAl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tc.) treated equa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mmatical co-reference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sonal pro- noun formally required by another el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noun must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rk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be treated as s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rget of reference is unambiguously identifi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ten in subordinate clauses, mostly attributi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.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e-wrote a-book number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its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-pages hund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4E9-FC5F-48E5-A997-DD2F3C54E2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62840" y="3051000"/>
            <a:ext cx="326880" cy="541440"/>
          </a:xfrm>
          <a:custGeom>
            <a:avLst/>
            <a:gdLst/>
            <a:ahLst/>
            <a:rect l="l" t="t" r="r" b="b"/>
            <a:pathLst>
              <a:path w="206" h="341">
                <a:moveTo>
                  <a:pt x="0" y="0"/>
                </a:moveTo>
                <a:lnTo>
                  <a:pt x="206" y="341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1752480"/>
            <a:ext cx="349560" cy="112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5257800"/>
            <a:ext cx="150156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Hw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gramma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5200" y="4330800"/>
            <a:ext cx="157140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mala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entenc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62840" y="3060720"/>
            <a:ext cx="961920" cy="531720"/>
          </a:xfrm>
          <a:custGeom>
            <a:avLst/>
            <a:gdLst/>
            <a:ahLst/>
            <a:rect l="l" t="t" r="r" b="b"/>
            <a:pathLst>
              <a:path w="606" h="335">
                <a:moveTo>
                  <a:pt x="0" y="0"/>
                </a:moveTo>
                <a:lnTo>
                  <a:pt x="606" y="335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773440"/>
            <a:ext cx="1371600" cy="503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r_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760" y="1708200"/>
            <a:ext cx="1465200" cy="904680"/>
          </a:xfrm>
          <a:custGeom>
            <a:avLst/>
            <a:gdLst/>
            <a:ahLst/>
            <a:rect l="l" t="t" r="r" b="b"/>
            <a:pathLst>
              <a:path w="923" h="570">
                <a:moveTo>
                  <a:pt x="0" y="0"/>
                </a:moveTo>
                <a:lnTo>
                  <a:pt x="923" y="57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22600"/>
            <a:ext cx="982800" cy="428400"/>
          </a:xfrm>
          <a:custGeom>
            <a:avLst/>
            <a:gdLst/>
            <a:ahLst/>
            <a:rect l="l" t="t" r="r" b="b"/>
            <a:pathLst>
              <a:path w="619" h="270">
                <a:moveTo>
                  <a:pt x="0" y="0"/>
                </a:moveTo>
                <a:lnTo>
                  <a:pt x="619" y="270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auses &amp; Co-reference in Tre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6400"/>
            <a:ext cx="543240" cy="897120"/>
          </a:xfrm>
          <a:custGeom>
            <a:avLst/>
            <a:gdLst/>
            <a:ahLst/>
            <a:rect l="l" t="t" r="r" b="b"/>
            <a:pathLst>
              <a:path w="342" h="565">
                <a:moveTo>
                  <a:pt x="0" y="0"/>
                </a:moveTo>
                <a:lnTo>
                  <a:pt x="342" y="565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9360" y="1935000"/>
            <a:ext cx="1752480" cy="416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tab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e-wr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145040"/>
            <a:ext cx="1544760" cy="503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afHati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gen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4" idx="0"/>
            <a:endCxn id="161" idx="0"/>
          </p:cNvCxnSpPr>
          <p:nvPr/>
        </p:nvCxnSpPr>
        <p:spPr>
          <a:xfrm flipV="1" rot="16200000">
            <a:off x="5334840" y="2447280"/>
            <a:ext cx="980280" cy="1329480"/>
          </a:xfrm>
          <a:prstGeom prst="curvedConnector5">
            <a:avLst>
              <a:gd name="adj1" fmla="val -22336"/>
              <a:gd name="adj2" fmla="val 58234"/>
              <a:gd name="adj3" fmla="val -22336"/>
            </a:avLst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334120" y="2239920"/>
            <a:ext cx="1247760" cy="492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itAba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32680" y="3592440"/>
            <a:ext cx="812880" cy="401760"/>
          </a:xfrm>
          <a:custGeom>
            <a:avLst/>
            <a:gdLst/>
            <a:ahLst/>
            <a:rect l="l" t="t" r="r" b="b"/>
            <a:pathLst>
              <a:path w="512" h="253">
                <a:moveTo>
                  <a:pt x="0" y="0"/>
                </a:moveTo>
                <a:lnTo>
                  <a:pt x="512" y="253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3306600"/>
            <a:ext cx="1447920" cy="505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’at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undr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04640" y="1725120"/>
            <a:ext cx="352440" cy="113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57480" y="3429000"/>
            <a:ext cx="241452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4571640" y="4419720"/>
            <a:ext cx="243828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438280" y="4723920"/>
            <a:ext cx="152424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048120" y="5028840"/>
            <a:ext cx="91440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3047760" y="53341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15920" y="1609560"/>
            <a:ext cx="1371600" cy="50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zAlat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he-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43120" y="2529000"/>
            <a:ext cx="1295280" cy="50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His~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v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he-fe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505320"/>
            <a:ext cx="1219320" cy="504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n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xC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715000"/>
            <a:ext cx="2210040" cy="352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_Ref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334120"/>
            <a:ext cx="838440" cy="504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4952880"/>
            <a:ext cx="2057400" cy="533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DiHun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r_Pno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lea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4038480"/>
            <a:ext cx="1752840" cy="505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Ejib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Obj_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y-im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697120"/>
            <a:ext cx="1447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rajul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S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a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5" idx="0"/>
            <a:endCxn id="173" idx="0"/>
          </p:cNvCxnSpPr>
          <p:nvPr/>
        </p:nvCxnSpPr>
        <p:spPr>
          <a:xfrm flipV="1" rot="16200000">
            <a:off x="2504520" y="4647600"/>
            <a:ext cx="1086480" cy="1220040"/>
          </a:xfrm>
          <a:prstGeom prst="curvedConnector5">
            <a:avLst>
              <a:gd name="adj1" fmla="val -12860"/>
              <a:gd name="adj2" fmla="val 96930"/>
              <a:gd name="adj3" fmla="val -12860"/>
            </a:avLst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flipH="1">
            <a:off x="3169440" y="1631880"/>
            <a:ext cx="42840" cy="187344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20920" y="3539520"/>
            <a:ext cx="5313600" cy="179388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38280" y="4419720"/>
            <a:ext cx="2133720" cy="304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560" y="844560"/>
            <a:ext cx="2819520" cy="1219320"/>
          </a:xfrm>
          <a:prstGeom prst="wedgeRectCallout">
            <a:avLst>
              <a:gd name="adj1" fmla="val 19875"/>
              <a:gd name="adj2" fmla="val 10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ttribu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prepositional predicate (adverbial)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514600"/>
            <a:ext cx="2362320" cy="939960"/>
          </a:xfrm>
          <a:prstGeom prst="wedgeRectCallout">
            <a:avLst>
              <a:gd name="adj1" fmla="val -42472"/>
              <a:gd name="adj2" fmla="val 108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Objec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verbal predicate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28600"/>
            <a:ext cx="2667240" cy="1143000"/>
          </a:xfrm>
          <a:prstGeom prst="wedgeRectCallout">
            <a:avLst>
              <a:gd name="adj1" fmla="val -50476"/>
              <a:gd name="adj2" fmla="val 140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Compound ver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formed as main verb and its compleme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7720" y="1743120"/>
            <a:ext cx="885960" cy="1089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800" y="2995560"/>
            <a:ext cx="1244520" cy="504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ybab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Zayn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2920" y="2293920"/>
            <a:ext cx="1066680" cy="504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x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5760" y="2824200"/>
            <a:ext cx="514080" cy="60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809880"/>
            <a:ext cx="1295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v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_Ref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1880" y="3432240"/>
            <a:ext cx="2361960" cy="1224000"/>
          </a:xfrm>
          <a:prstGeom prst="wedgeRectCallout">
            <a:avLst>
              <a:gd name="adj1" fmla="val -56921"/>
              <a:gd name="adj2" fmla="val 132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noun, as attribute in clause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92520" y="3276720"/>
            <a:ext cx="2895840" cy="838080"/>
          </a:xfrm>
          <a:prstGeom prst="wedgeRectCallout">
            <a:avLst>
              <a:gd name="adj1" fmla="val -50546"/>
              <a:gd name="adj2" fmla="val 142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ttribu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nominal predicate 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648320"/>
            <a:ext cx="2361960" cy="1160280"/>
          </a:xfrm>
          <a:prstGeom prst="wedgeRectCallout">
            <a:avLst>
              <a:gd name="adj1" fmla="val 35620"/>
              <a:gd name="adj2" fmla="val -100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noun, as adverbial in claus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FD4-91F6-4612-B6E7-002F69A598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ture Prospe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tion of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unctional Morpholo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ectogrammatica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no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xicons of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valency fra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Re-train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he feature-based tagger on MorphoTre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chine-learning on th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ebank dat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or various purpo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7C5-21EA-4F6D-86B0-1ACBD92028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Questions welcom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http://ckl.mff.cuni.cz/padt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1F1-E2DC-48CD-A691-8A6B063F88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ject Release – PADT 1.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December 200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Linguistic Data Consort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48 0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orpho,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13 5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ynta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23960" y="3343320"/>
          <a:ext cx="7597800" cy="2552760"/>
        </p:xfrm>
        <a:graphic>
          <a:graphicData uri="http://schemas.openxmlformats.org/drawingml/2006/table">
            <a:tbl>
              <a:tblPr/>
              <a:tblGrid>
                <a:gridCol w="934920"/>
                <a:gridCol w="1206720"/>
                <a:gridCol w="1233360"/>
                <a:gridCol w="2376360"/>
                <a:gridCol w="18464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 Pres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n ATB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mah P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n ATB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hua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-Hayat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-Nahar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hua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2B7-6E54-4FEC-9C7A-4EA1C918DF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pen-Source Too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ree Edi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-purpose annotation enviro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ite of programming ut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tgrap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arch Eng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/Client system archite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y-to-learn query langu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ncode::Arabi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Perl Mo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sion for processing of Arabic scri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abTeX, Buckwalter, Unicode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6D5-D139-4232-AEE8-9E126F7256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DT Functional View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unctional Generative Descri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ory of linguistic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ague Dependency Treebank for Cze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depen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on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ectogrammat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inguis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yt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surfa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depend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rpholog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tego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exical 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cross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ict distinction betw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r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units of descri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 each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DE7-500A-4898-993F-2D42AD47F9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ctional Morpho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syntax levels with their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stract langu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not just giving letters in tok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ves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ultiple sens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ness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ene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ict modeling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mmatical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phoTrees –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‘human tagging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uccessfu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otype feature-based tag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120" t="40761" r="2674" b="29264"/>
          <a:stretch/>
        </p:blipFill>
        <p:spPr>
          <a:xfrm>
            <a:off x="861840" y="4954680"/>
            <a:ext cx="7608960" cy="103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D69-5C51-443B-8A11-E589C5D3D3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504360"/>
            <a:ext cx="80010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yntactic Levels of Descrip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2724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3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tical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agmatical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tivated, close to surface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ingle 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ulting fro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phological level form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e n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e-like dependency structure for every sent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3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togrammatical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nguis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literal)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deep relations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F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itial structures transformed from 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des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utosemantic wor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isive rol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ency fram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AB1-41CE-49D6-A095-87C6225FD4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ogic of Analytical Tre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557000"/>
            <a:ext cx="80010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dependenc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vale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Reduc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sentence must retain grammatical correctness if leav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terminal nodes) are chopped of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351600"/>
            <a:ext cx="78487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use compon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te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ragraphs etc.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trees of clauses exchangeable for non-cla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ords, tokenized parts of words, punctuation marks – marked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g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yntactic relations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ing nod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endent node/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B88-1557-4160-9649-7DA60EF378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ome Syntax Issues of Arab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253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n-verb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redicatio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several ty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bordinate non-verb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/ modif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Verb-like behav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many nominal for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ly VSO in verbal sentences, but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79560" indent="-3556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ce-versa in non-verbal clau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79560" indent="-3556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, depending o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text bound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und verbs, fixed composite preposi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ammatic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-referenc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accusative of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ner object, complex referencing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6F1-BAF2-4FD5-ABB8-22E30AD21D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 I: Predic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32644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ad node of tree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R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 Steady role in sentenc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nnot be omi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bal predicate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-go to scho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-verbal pr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min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-house a-big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=the house is bi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istenti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re a-c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=there is a cit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posit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essive: For him a-house (=he has a hou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erbial: The-mosque in the-city (=…i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junction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-problem th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=…is tha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61C-47F5-4CCE-8EDB-07319DF42B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7:32:24Z</dcterms:created>
  <dc:creator>Q</dc:creator>
  <dc:description/>
  <dc:language>en-US</dc:language>
  <cp:lastModifiedBy>Acer</cp:lastModifiedBy>
  <dcterms:modified xsi:type="dcterms:W3CDTF">2004-10-19T09:46:31Z</dcterms:modified>
  <cp:revision>301</cp:revision>
  <dc:subject/>
  <dc:title>Prague Arabic Dependency Treebank</dc:title>
</cp:coreProperties>
</file>