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1763-0D04-4D25-9FFA-122C61EA1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58256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8116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7053-C593-4DCF-8932-D0787FDEF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5825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5825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8116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8116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BD14-4E3E-4FD4-A56A-5D07C2D30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5825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5825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5825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8116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8116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8116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C1E8-28F3-4E6C-A711-31B857F67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919B7-72E4-4E31-AB79-8755CF59B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58256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B0E3A-E644-449E-8E62-5C86D7A22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58256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AF470-BB5B-42BE-B0FE-E23890598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58256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58256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1AE71-F65B-41CA-B131-211F456C4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569FD-5B8B-4B37-A0E4-D312E6E0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18900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23F6B-8BE0-4CF9-B3D7-D5C53DA88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5825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58256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8116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E8F5B-1781-4C36-8760-947E271D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58256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2047-A04C-449E-8D0D-8233D3A5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58256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5825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8116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C1896-75F2-459E-89BE-E2C0A398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5825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5825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8116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5E10E-1700-4C9C-BC2C-2F745E39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58256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8116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D5FF2-9193-4698-8B7C-7EBD8DBF3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5825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5825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8116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8116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C3C02-5771-4C7E-ADED-B880B2D50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5825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5825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5825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8116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8116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8116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86EF4-5B8F-436A-A710-961E3FFB1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58256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2A80-9743-4743-9FAC-1F53730E5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58256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58256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C11F-219B-453B-8B21-1181D41B6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7A9D-197F-4393-9AB1-70197456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18900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E4E2-CE00-42E1-88A2-B95E46C01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5825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58256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8116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9616-CD75-4B3C-947F-03B699C9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58256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5825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8116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BDF5-F850-4F31-B034-3857F9F1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5825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5825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8116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9CF2-10E7-4828-89DA-0015E6B3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58256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11280" y="1414440"/>
            <a:ext cx="795816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093000"/>
            <a:ext cx="792504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16536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842920" y="6165360"/>
            <a:ext cx="4033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164360" y="6165360"/>
            <a:ext cx="13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CE664-05F0-4862-971D-3F53FF85D089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6024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20669-8888-4C26-9F4A-AAAADDCB0723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414440"/>
            <a:ext cx="795816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054840" y="4531320"/>
            <a:ext cx="2582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Jan Haji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č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takar Smr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ž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Petr Zemánek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Jan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Šnaidauf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Emanuel Beš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ADT-logo" descr=""/>
          <p:cNvPicPr/>
          <p:nvPr/>
        </p:nvPicPr>
        <p:blipFill>
          <a:blip r:embed="rId2"/>
          <a:stretch/>
        </p:blipFill>
        <p:spPr>
          <a:xfrm>
            <a:off x="657360" y="3787920"/>
            <a:ext cx="121572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20560" y="5021280"/>
            <a:ext cx="807732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culty of Mathematics and Phys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culty of Philosophy and 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les 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46400" y="2544840"/>
            <a:ext cx="6426000" cy="11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Development in Data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 an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16000" y="549360"/>
            <a:ext cx="754236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ague Arabic Dependency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reeba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5040" y="6303960"/>
            <a:ext cx="792468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95280" y="4221000"/>
            <a:ext cx="674640" cy="1059120"/>
          </a:xfrm>
          <a:custGeom>
            <a:avLst/>
            <a:gdLst/>
            <a:ahLst/>
            <a:rect l="l" t="t" r="r" b="b"/>
            <a:pathLst>
              <a:path w="425" h="667">
                <a:moveTo>
                  <a:pt x="0" y="0"/>
                </a:moveTo>
                <a:lnTo>
                  <a:pt x="425" y="667"/>
                </a:lnTo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04640" y="4221000"/>
            <a:ext cx="1592280" cy="1084320"/>
          </a:xfrm>
          <a:custGeom>
            <a:avLst/>
            <a:gdLst/>
            <a:ahLst/>
            <a:rect l="l" t="t" r="r" b="b"/>
            <a:pathLst>
              <a:path w="1003" h="683">
                <a:moveTo>
                  <a:pt x="0" y="0"/>
                </a:moveTo>
                <a:lnTo>
                  <a:pt x="1003" y="683"/>
                </a:lnTo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7360" y="4365720"/>
            <a:ext cx="1171440" cy="49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a- [</a:t>
            </a:r>
            <a:r>
              <a:rPr b="1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PredP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2640" y="5445000"/>
            <a:ext cx="9781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hu [</a:t>
            </a:r>
            <a:r>
              <a:rPr b="1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Obj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h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1000" y="5445000"/>
            <a:ext cx="16268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aytun [</a:t>
            </a:r>
            <a:r>
              <a:rPr b="1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b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a-house</a:t>
            </a:r>
            <a:r>
              <a:rPr b="0" i="1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nom.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Predication Types in Tre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3203640" y="1700280"/>
            <a:ext cx="474480" cy="660240"/>
          </a:xfrm>
          <a:custGeom>
            <a:avLst/>
            <a:gdLst/>
            <a:ahLst/>
            <a:rect l="l" t="t" r="r" b="b"/>
            <a:pathLst>
              <a:path w="299" h="416">
                <a:moveTo>
                  <a:pt x="0" y="0"/>
                </a:moveTo>
                <a:lnTo>
                  <a:pt x="299" y="416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78120" y="2360520"/>
            <a:ext cx="479520" cy="723960"/>
          </a:xfrm>
          <a:custGeom>
            <a:avLst/>
            <a:gdLst/>
            <a:ahLst/>
            <a:rect l="l" t="t" r="r" b="b"/>
            <a:pathLst>
              <a:path w="302" h="456">
                <a:moveTo>
                  <a:pt x="0" y="0"/>
                </a:moveTo>
                <a:lnTo>
                  <a:pt x="302" y="456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78120" y="2360520"/>
            <a:ext cx="1446480" cy="723960"/>
          </a:xfrm>
          <a:custGeom>
            <a:avLst/>
            <a:gdLst/>
            <a:ahLst/>
            <a:rect l="l" t="t" r="r" b="b"/>
            <a:pathLst>
              <a:path w="911" h="456">
                <a:moveTo>
                  <a:pt x="0" y="0"/>
                </a:moveTo>
                <a:lnTo>
                  <a:pt x="911" y="456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908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678120" y="2360520"/>
            <a:ext cx="3287880" cy="736560"/>
          </a:xfrm>
          <a:custGeom>
            <a:avLst/>
            <a:gdLst/>
            <a:ahLst/>
            <a:rect l="l" t="t" r="r" b="b"/>
            <a:pathLst>
              <a:path w="2071" h="464">
                <a:moveTo>
                  <a:pt x="0" y="0"/>
                </a:moveTo>
                <a:lnTo>
                  <a:pt x="2071" y="464"/>
                </a:lnTo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908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966000" y="3097080"/>
            <a:ext cx="496800" cy="679680"/>
          </a:xfrm>
          <a:custGeom>
            <a:avLst/>
            <a:gdLst/>
            <a:ahLst/>
            <a:rect l="l" t="t" r="r" b="b"/>
            <a:pathLst>
              <a:path w="313" h="428">
                <a:moveTo>
                  <a:pt x="0" y="0"/>
                </a:moveTo>
                <a:lnTo>
                  <a:pt x="313" y="428"/>
                </a:lnTo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467480" y="3773520"/>
            <a:ext cx="586080" cy="774720"/>
          </a:xfrm>
          <a:custGeom>
            <a:avLst/>
            <a:gdLst/>
            <a:ahLst/>
            <a:rect l="l" t="t" r="r" b="b"/>
            <a:pathLst>
              <a:path w="369" h="488">
                <a:moveTo>
                  <a:pt x="0" y="0"/>
                </a:moveTo>
                <a:lnTo>
                  <a:pt x="369" y="488"/>
                </a:lnTo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1908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16240" y="1700280"/>
            <a:ext cx="5343480" cy="664920"/>
          </a:xfrm>
          <a:custGeom>
            <a:avLst/>
            <a:gdLst/>
            <a:ahLst/>
            <a:rect l="l" t="t" r="r" b="b"/>
            <a:pathLst>
              <a:path w="3366" h="419">
                <a:moveTo>
                  <a:pt x="0" y="0"/>
                </a:moveTo>
                <a:lnTo>
                  <a:pt x="3366" y="419"/>
                </a:lnTo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1908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13080" y="1747800"/>
            <a:ext cx="1370160" cy="5047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 [</a:t>
            </a:r>
            <a:r>
              <a:rPr b="1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Pred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las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11680" y="2428920"/>
            <a:ext cx="1365120" cy="4525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cc00"/>
                </a:solidFill>
                <a:latin typeface="Arial"/>
                <a:ea typeface="Times New Roman"/>
              </a:rPr>
              <a:t>iqtir</a:t>
            </a:r>
            <a:r>
              <a:rPr b="0" lang="en-US" sz="1600" spc="-1" strike="noStrike">
                <a:solidFill>
                  <a:srgbClr val="00cc00"/>
                </a:solidFill>
                <a:latin typeface="Arial"/>
                <a:ea typeface="Times New Roman"/>
              </a:rPr>
              <a:t>A</a:t>
            </a:r>
            <a:r>
              <a:rPr b="0" sz="1600" spc="-1" strike="noStrike">
                <a:solidFill>
                  <a:srgbClr val="00cc00"/>
                </a:solidFill>
                <a:latin typeface="Arial"/>
                <a:ea typeface="Times New Roman"/>
              </a:rPr>
              <a:t>Hu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Sb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propos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024440" y="3168720"/>
            <a:ext cx="792000" cy="5047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‑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u [</a:t>
            </a:r>
            <a:r>
              <a:rPr b="1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tr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h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889520" y="3168720"/>
            <a:ext cx="2003400" cy="4665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l-Eam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yata [</a:t>
            </a:r>
            <a:r>
              <a:rPr b="1" sz="1600" spc="-1" strike="noStrike">
                <a:solidFill>
                  <a:srgbClr val="00cc00"/>
                </a:solidFill>
                <a:latin typeface="Arial"/>
                <a:ea typeface="Times New Roman"/>
              </a:rPr>
              <a:t>Obj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the-operation</a:t>
            </a:r>
            <a:r>
              <a:rPr b="0" i="1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acc.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905520" y="3168720"/>
            <a:ext cx="1252800" cy="41580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AuxP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32440" y="3889440"/>
            <a:ext cx="1440000" cy="44460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zum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’i [</a:t>
            </a:r>
            <a:r>
              <a:rPr b="1" sz="1600" spc="-1" strike="noStrike">
                <a:solidFill>
                  <a:srgbClr val="00cc00"/>
                </a:solidFill>
                <a:latin typeface="Arial"/>
                <a:ea typeface="Times New Roman"/>
              </a:rPr>
              <a:t>Obj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colleag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129520" y="4392720"/>
            <a:ext cx="771480" cy="4395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‑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i [Atr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h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45360" y="2449440"/>
            <a:ext cx="1800360" cy="50472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atayni [Adv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two-hours</a:t>
            </a:r>
            <a:r>
              <a:rPr b="0" i="1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acc.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10920" y="1757520"/>
            <a:ext cx="361800" cy="726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4000" y="2620800"/>
            <a:ext cx="1654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l-baytu [</a:t>
            </a:r>
            <a:r>
              <a:rPr b="1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b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the-house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[nom.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31880" y="1901880"/>
            <a:ext cx="1752480" cy="41580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a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un [</a:t>
            </a:r>
            <a:r>
              <a:rPr b="1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Pnom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a-</a:t>
            </a:r>
            <a:r>
              <a:rPr b="0" i="1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big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[nom.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09960" y="3500280"/>
            <a:ext cx="1014120" cy="782640"/>
          </a:xfrm>
          <a:custGeom>
            <a:avLst/>
            <a:gdLst/>
            <a:ahLst/>
            <a:rect l="l" t="t" r="r" b="b"/>
            <a:pathLst>
              <a:path w="639" h="493">
                <a:moveTo>
                  <a:pt x="0" y="0"/>
                </a:moveTo>
                <a:lnTo>
                  <a:pt x="639" y="493"/>
                </a:lnTo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1908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668920" y="4968720"/>
            <a:ext cx="1676520" cy="425520"/>
          </a:xfrm>
          <a:custGeom>
            <a:avLst/>
            <a:gdLst/>
            <a:ahLst/>
            <a:rect l="l" t="t" r="r" b="b"/>
            <a:pathLst>
              <a:path w="1056" h="268">
                <a:moveTo>
                  <a:pt x="0" y="0"/>
                </a:moveTo>
                <a:lnTo>
                  <a:pt x="1056" y="268"/>
                </a:lnTo>
              </a:path>
            </a:pathLst>
          </a:custGeom>
          <a:blipFill rotWithShape="0">
            <a:blip r:embed="rId20"/>
            <a:srcRect/>
            <a:tile tx="0" ty="0" sx="100000" sy="100000" algn="ctr"/>
          </a:blipFill>
          <a:ln w="1908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54520" y="4983120"/>
            <a:ext cx="930240" cy="411120"/>
          </a:xfrm>
          <a:custGeom>
            <a:avLst/>
            <a:gdLst/>
            <a:ahLst/>
            <a:rect l="l" t="t" r="r" b="b"/>
            <a:pathLst>
              <a:path w="586" h="259">
                <a:moveTo>
                  <a:pt x="586" y="0"/>
                </a:moveTo>
                <a:lnTo>
                  <a:pt x="0" y="259"/>
                </a:lnTo>
              </a:path>
            </a:pathLst>
          </a:custGeom>
          <a:blipFill rotWithShape="0">
            <a:blip r:embed="rId21"/>
            <a:srcRect/>
            <a:tile tx="0" ty="0" sx="100000" sy="100000" algn="ctr"/>
          </a:blipFill>
          <a:ln w="1908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08000" y="3578400"/>
            <a:ext cx="1727280" cy="50292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am~ata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PredE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there-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3280" y="4724280"/>
            <a:ext cx="9367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I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PredP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659640" y="5445000"/>
            <a:ext cx="1655640" cy="5112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l-madInati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</a:t>
            </a:r>
            <a:r>
              <a:rPr b="1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A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  <a:ea typeface="Times New Roman"/>
              </a:rPr>
              <a:t>dv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the-cit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[gen.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11640" y="5445000"/>
            <a:ext cx="1873080" cy="50976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l-jAmiEu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1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the-mosque</a:t>
            </a:r>
            <a:r>
              <a:rPr b="0" i="1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om</a:t>
            </a:r>
            <a:r>
              <a:rPr b="0" i="1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43280" y="4365720"/>
            <a:ext cx="1846080" cy="50328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dInatun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b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a-cit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[nom.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/>
          <p:nvPr/>
        </p:nvCxnSpPr>
        <p:spPr>
          <a:xfrm>
            <a:off x="1908000" y="1699920"/>
            <a:ext cx="6912720" cy="3385080"/>
          </a:xfrm>
          <a:prstGeom prst="curvedConnector5">
            <a:avLst>
              <a:gd name="adj1" fmla="val 25998"/>
              <a:gd name="adj2" fmla="val 50000"/>
              <a:gd name="adj3" fmla="val 25998"/>
            </a:avLst>
          </a:prstGeom>
          <a:ln cap="rnd" w="19080">
            <a:solidFill>
              <a:srgbClr val="cc0000"/>
            </a:solidFill>
            <a:custDash>
              <a:ds d="100000" sp="1000"/>
            </a:custDash>
            <a:miter/>
          </a:ln>
        </p:spPr>
      </p:cxnSp>
      <p:sp>
        <p:nvSpPr>
          <p:cNvPr id="143" name=""/>
          <p:cNvSpPr/>
          <p:nvPr/>
        </p:nvSpPr>
        <p:spPr>
          <a:xfrm flipV="1">
            <a:off x="324000" y="2997000"/>
            <a:ext cx="3311280" cy="431640"/>
          </a:xfrm>
          <a:prstGeom prst="line">
            <a:avLst/>
          </a:prstGeom>
          <a:ln cap="rnd" w="1908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71640" y="3357720"/>
            <a:ext cx="2763720" cy="2625480"/>
          </a:xfrm>
          <a:custGeom>
            <a:avLst/>
            <a:gdLst/>
            <a:ahLst/>
            <a:rect l="l" t="t" r="r" b="b"/>
            <a:pathLst>
              <a:path w="1741" h="1654">
                <a:moveTo>
                  <a:pt x="0" y="0"/>
                </a:moveTo>
                <a:lnTo>
                  <a:pt x="1741" y="1654"/>
                </a:lnTo>
              </a:path>
            </a:pathLst>
          </a:custGeom>
          <a:noFill/>
          <a:ln cap="rnd" w="19080">
            <a:solidFill>
              <a:srgbClr val="cc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22520" y="4349880"/>
            <a:ext cx="1293840" cy="1319040"/>
          </a:xfrm>
          <a:custGeom>
            <a:avLst/>
            <a:gdLst/>
            <a:ahLst/>
            <a:rect l="l" t="t" r="r" b="b"/>
            <a:pathLst>
              <a:path w="815" h="831">
                <a:moveTo>
                  <a:pt x="0" y="831"/>
                </a:moveTo>
                <a:lnTo>
                  <a:pt x="815" y="0"/>
                </a:lnTo>
              </a:path>
            </a:pathLst>
          </a:custGeom>
          <a:noFill/>
          <a:ln cap="rnd" w="19080">
            <a:solidFill>
              <a:srgbClr val="cc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398680" y="1587600"/>
            <a:ext cx="1798560" cy="863640"/>
          </a:xfrm>
          <a:prstGeom prst="wedgeRectCallout">
            <a:avLst>
              <a:gd name="adj1" fmla="val -49027"/>
              <a:gd name="adj2" fmla="val 8823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minal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00000" y="2492280"/>
            <a:ext cx="1943280" cy="1081080"/>
          </a:xfrm>
          <a:prstGeom prst="wedgeRectCallout">
            <a:avLst>
              <a:gd name="adj1" fmla="val -53513"/>
              <a:gd name="adj2" fmla="val 965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epositiona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possessiv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780000" y="2852640"/>
            <a:ext cx="1798560" cy="863640"/>
          </a:xfrm>
          <a:prstGeom prst="wedgeRectCallout">
            <a:avLst>
              <a:gd name="adj1" fmla="val -49648"/>
              <a:gd name="adj2" fmla="val 919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istential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33720" y="4038480"/>
            <a:ext cx="1798560" cy="1224000"/>
          </a:xfrm>
          <a:prstGeom prst="wedgeRectCallout">
            <a:avLst>
              <a:gd name="adj1" fmla="val 58384"/>
              <a:gd name="adj2" fmla="val 790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epositiona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adverbial, </a:t>
            </a: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locativ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35640" y="1268280"/>
            <a:ext cx="1798560" cy="863640"/>
          </a:xfrm>
          <a:prstGeom prst="wedgeRectCallout">
            <a:avLst>
              <a:gd name="adj1" fmla="val -50972"/>
              <a:gd name="adj2" fmla="val 8933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erbal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191120" y="4572000"/>
            <a:ext cx="2303280" cy="1008000"/>
          </a:xfrm>
          <a:prstGeom prst="wedgeRectCallout">
            <a:avLst>
              <a:gd name="adj1" fmla="val 45384"/>
              <a:gd name="adj2" fmla="val -10653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cc00"/>
                </a:solidFill>
                <a:latin typeface="Verdana"/>
              </a:rPr>
              <a:t>Verb-like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700" spc="-1" strike="noStrike">
                <a:solidFill>
                  <a:srgbClr val="00cc00"/>
                </a:solidFill>
                <a:latin typeface="Verdana"/>
              </a:rPr>
              <a:t>behavior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(object of noun?)</a:t>
            </a:r>
            <a:br>
              <a:rPr sz="1600"/>
            </a:b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gue Arabic Dependency Treebank: Development in Data and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3C19-B856-427B-B739-EAAD57C786A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3, 2004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Problem II: Clauses &amp; Co-refere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582560"/>
            <a:ext cx="8272440" cy="44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Recursivenes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 subordinate clause is con-tained as subtree in place of simple el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5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ead-node of clause gets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the same fun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5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blem: non-verbal structures – clauses or not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5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pound verbs (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mA zAla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etc.) treated equall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Grammatical co-reference: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sonal pro- noun formally required by another el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5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noun must b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marke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o be treated as su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5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arget of reference is unambiguously identifiab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5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ften in subordinate clauses, mostly attributiv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.: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He-wrote a-book number 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its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-pages hundr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gue Arabic Dependency Treebank: Development in Data and To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3310-EEF9-4FDB-8B58-3989752E7EA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3, 2004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162840" y="3051000"/>
            <a:ext cx="326880" cy="541440"/>
          </a:xfrm>
          <a:custGeom>
            <a:avLst/>
            <a:gdLst/>
            <a:ahLst/>
            <a:rect l="l" t="t" r="r" b="b"/>
            <a:pathLst>
              <a:path w="206" h="341">
                <a:moveTo>
                  <a:pt x="0" y="0"/>
                </a:moveTo>
                <a:lnTo>
                  <a:pt x="206" y="341"/>
                </a:lnTo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1752480"/>
            <a:ext cx="349560" cy="1122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5257800"/>
            <a:ext cx="1501560" cy="504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aHwu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b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grammar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[nom.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35200" y="4330800"/>
            <a:ext cx="1571400" cy="50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jumalan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b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sentence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[acc.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62840" y="3060720"/>
            <a:ext cx="961920" cy="531720"/>
          </a:xfrm>
          <a:custGeom>
            <a:avLst/>
            <a:gdLst/>
            <a:ahLst/>
            <a:rect l="l" t="t" r="r" b="b"/>
            <a:pathLst>
              <a:path w="606" h="335">
                <a:moveTo>
                  <a:pt x="0" y="0"/>
                </a:moveTo>
                <a:lnTo>
                  <a:pt x="606" y="335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324480" y="2773440"/>
            <a:ext cx="1371600" cy="5032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I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Atr_PredP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695760" y="1708200"/>
            <a:ext cx="1465200" cy="904680"/>
          </a:xfrm>
          <a:custGeom>
            <a:avLst/>
            <a:gdLst/>
            <a:ahLst/>
            <a:rect l="l" t="t" r="r" b="b"/>
            <a:pathLst>
              <a:path w="923" h="570">
                <a:moveTo>
                  <a:pt x="0" y="0"/>
                </a:moveTo>
                <a:lnTo>
                  <a:pt x="923" y="570"/>
                </a:lnTo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908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70320" y="2622600"/>
            <a:ext cx="982800" cy="428400"/>
          </a:xfrm>
          <a:custGeom>
            <a:avLst/>
            <a:gdLst/>
            <a:ahLst/>
            <a:rect l="l" t="t" r="r" b="b"/>
            <a:pathLst>
              <a:path w="619" h="270">
                <a:moveTo>
                  <a:pt x="0" y="0"/>
                </a:moveTo>
                <a:lnTo>
                  <a:pt x="619" y="270"/>
                </a:lnTo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</a:rPr>
              <a:t>Clauses &amp; Co-reference in Trees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3693960" y="1706400"/>
            <a:ext cx="543240" cy="897120"/>
          </a:xfrm>
          <a:custGeom>
            <a:avLst/>
            <a:gdLst/>
            <a:ahLst/>
            <a:rect l="l" t="t" r="r" b="b"/>
            <a:pathLst>
              <a:path w="342" h="565">
                <a:moveTo>
                  <a:pt x="0" y="0"/>
                </a:moveTo>
                <a:lnTo>
                  <a:pt x="342" y="565"/>
                </a:lnTo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89360" y="1935000"/>
            <a:ext cx="1752480" cy="416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ataba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ed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he-wro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086600" y="4145040"/>
            <a:ext cx="1544760" cy="5032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afHatin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tr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page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[gen.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" name=""/>
          <p:cNvCxnSpPr>
            <a:stCxn id="154" idx="0"/>
            <a:endCxn id="161" idx="0"/>
          </p:cNvCxnSpPr>
          <p:nvPr/>
        </p:nvCxnSpPr>
        <p:spPr>
          <a:xfrm flipV="1" rot="16200000">
            <a:off x="5334840" y="2447280"/>
            <a:ext cx="980280" cy="1329480"/>
          </a:xfrm>
          <a:prstGeom prst="curvedConnector5">
            <a:avLst>
              <a:gd name="adj1" fmla="val -22336"/>
              <a:gd name="adj2" fmla="val 58234"/>
              <a:gd name="adj3" fmla="val -22336"/>
            </a:avLst>
          </a:prstGeom>
          <a:ln w="19080">
            <a:solidFill>
              <a:srgbClr val="00cc00"/>
            </a:solidFill>
            <a:prstDash val="dash"/>
            <a:miter/>
            <a:tailEnd len="med" type="triangle" w="med"/>
          </a:ln>
        </p:spPr>
      </p:cxnSp>
      <p:sp>
        <p:nvSpPr>
          <p:cNvPr id="167" name=""/>
          <p:cNvSpPr/>
          <p:nvPr/>
        </p:nvSpPr>
        <p:spPr>
          <a:xfrm>
            <a:off x="5334120" y="2239920"/>
            <a:ext cx="1247760" cy="4921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itAban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bj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a-bo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132680" y="3592440"/>
            <a:ext cx="812880" cy="401760"/>
          </a:xfrm>
          <a:custGeom>
            <a:avLst/>
            <a:gdLst/>
            <a:ahLst/>
            <a:rect l="l" t="t" r="r" b="b"/>
            <a:pathLst>
              <a:path w="512" h="253">
                <a:moveTo>
                  <a:pt x="0" y="0"/>
                </a:moveTo>
                <a:lnTo>
                  <a:pt x="512" y="253"/>
                </a:lnTo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19080">
            <a:solidFill>
              <a:srgbClr val="00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315200" y="3306600"/>
            <a:ext cx="1447920" cy="5050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i’atu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b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hundr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[nom.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404640" y="1725120"/>
            <a:ext cx="352440" cy="11336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157480" y="3429000"/>
            <a:ext cx="241452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4571640" y="4419720"/>
            <a:ext cx="2438280" cy="8380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2438280" y="4723920"/>
            <a:ext cx="1524240" cy="3049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048120" y="5028840"/>
            <a:ext cx="914400" cy="3049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3047760" y="5334120"/>
            <a:ext cx="609480" cy="4572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015920" y="1609560"/>
            <a:ext cx="1371600" cy="5050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zAlat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ed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she-stopp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43120" y="2529000"/>
            <a:ext cx="1295280" cy="50472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uHis~u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Atv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she-fe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23880" y="3505320"/>
            <a:ext cx="1219320" cy="50472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nna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uxC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th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09880" y="5715000"/>
            <a:ext cx="2210040" cy="3524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‑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tr</a:t>
            </a:r>
            <a:r>
              <a:rPr b="1" lang="en-US" sz="1600" spc="-1" strike="noStrike">
                <a:solidFill>
                  <a:srgbClr val="00cc00"/>
                </a:solidFill>
                <a:latin typeface="Arial"/>
                <a:ea typeface="Times New Roman"/>
              </a:rPr>
              <a:t>_Ref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the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010280" y="5334120"/>
            <a:ext cx="838440" cy="50472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hA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bj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038480" y="4952880"/>
            <a:ext cx="2057400" cy="53352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wADiHun [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Atr_Pnom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clear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[nom.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4038480"/>
            <a:ext cx="1752840" cy="5050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uEjibu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Obj_Pred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they-imp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429000" y="2697120"/>
            <a:ext cx="1447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l-rajulu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Sb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the-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ma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[nom.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"/>
          <p:cNvCxnSpPr>
            <a:stCxn id="175" idx="0"/>
            <a:endCxn id="173" idx="0"/>
          </p:cNvCxnSpPr>
          <p:nvPr/>
        </p:nvCxnSpPr>
        <p:spPr>
          <a:xfrm flipV="1" rot="16200000">
            <a:off x="2504520" y="4647600"/>
            <a:ext cx="1086480" cy="1220040"/>
          </a:xfrm>
          <a:prstGeom prst="curvedConnector5">
            <a:avLst>
              <a:gd name="adj1" fmla="val -12860"/>
              <a:gd name="adj2" fmla="val 96930"/>
              <a:gd name="adj3" fmla="val -12860"/>
            </a:avLst>
          </a:prstGeom>
          <a:ln w="19080">
            <a:solidFill>
              <a:srgbClr val="00cc00"/>
            </a:solidFill>
            <a:prstDash val="dash"/>
            <a:miter/>
            <a:tailEnd len="med" type="triangle" w="med"/>
          </a:ln>
        </p:spPr>
      </p:cxnSp>
      <p:sp>
        <p:nvSpPr>
          <p:cNvPr id="185" name=""/>
          <p:cNvSpPr/>
          <p:nvPr/>
        </p:nvSpPr>
        <p:spPr>
          <a:xfrm flipH="1">
            <a:off x="3169440" y="1631880"/>
            <a:ext cx="42840" cy="1873440"/>
          </a:xfrm>
          <a:custGeom>
            <a:avLst/>
            <a:gdLst/>
            <a:ahLst/>
            <a:rect l="l" t="t" r="r" b="b"/>
            <a:pathLst>
              <a:path w="815" h="831">
                <a:moveTo>
                  <a:pt x="0" y="831"/>
                </a:moveTo>
                <a:lnTo>
                  <a:pt x="815" y="0"/>
                </a:lnTo>
              </a:path>
            </a:pathLst>
          </a:custGeom>
          <a:noFill/>
          <a:ln cap="rnd" w="19080">
            <a:solidFill>
              <a:srgbClr val="cc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220920" y="3539520"/>
            <a:ext cx="5313600" cy="1793880"/>
          </a:xfrm>
          <a:custGeom>
            <a:avLst/>
            <a:gdLst/>
            <a:ahLst/>
            <a:rect l="l" t="t" r="r" b="b"/>
            <a:pathLst>
              <a:path w="815" h="831">
                <a:moveTo>
                  <a:pt x="0" y="831"/>
                </a:moveTo>
                <a:lnTo>
                  <a:pt x="815" y="0"/>
                </a:lnTo>
              </a:path>
            </a:pathLst>
          </a:custGeom>
          <a:noFill/>
          <a:ln cap="rnd" w="19080">
            <a:solidFill>
              <a:srgbClr val="cc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2438280" y="4419720"/>
            <a:ext cx="2133720" cy="3045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35560" y="844560"/>
            <a:ext cx="2819520" cy="1219320"/>
          </a:xfrm>
          <a:prstGeom prst="wedgeRectCallout">
            <a:avLst>
              <a:gd name="adj1" fmla="val 19875"/>
              <a:gd name="adj2" fmla="val 1062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Attributiv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lause, prepositional predicate (adverbial)</a:t>
            </a:r>
            <a:br>
              <a:rPr sz="1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657600" y="2514600"/>
            <a:ext cx="2362320" cy="939960"/>
          </a:xfrm>
          <a:prstGeom prst="wedgeRectCallout">
            <a:avLst>
              <a:gd name="adj1" fmla="val -42472"/>
              <a:gd name="adj2" fmla="val 10844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Objectiv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lause, verbal predicate</a:t>
            </a:r>
            <a:br>
              <a:rPr sz="1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209680" y="228600"/>
            <a:ext cx="2667240" cy="1143000"/>
          </a:xfrm>
          <a:prstGeom prst="wedgeRectCallout">
            <a:avLst>
              <a:gd name="adj1" fmla="val -50476"/>
              <a:gd name="adj2" fmla="val 14069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Compound verb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formed as main verb and its complement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47720" y="1743120"/>
            <a:ext cx="885960" cy="1089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6800" y="2995560"/>
            <a:ext cx="1244520" cy="50472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zaybabu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b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Zayn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2920" y="2293920"/>
            <a:ext cx="1066680" cy="50472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uxM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n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25760" y="2824200"/>
            <a:ext cx="514080" cy="604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3809880"/>
            <a:ext cx="1295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68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dv</a:t>
            </a:r>
            <a:r>
              <a:rPr b="1" lang="en-US" sz="1600" spc="-1" strike="noStrike">
                <a:solidFill>
                  <a:srgbClr val="00cc00"/>
                </a:solidFill>
                <a:latin typeface="Arial"/>
                <a:ea typeface="Times New Roman"/>
              </a:rPr>
              <a:t>_Ref</a:t>
            </a:r>
            <a:r>
              <a:rPr b="0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411880" y="3432240"/>
            <a:ext cx="2361960" cy="1224000"/>
          </a:xfrm>
          <a:prstGeom prst="wedgeRectCallout">
            <a:avLst>
              <a:gd name="adj1" fmla="val -56921"/>
              <a:gd name="adj2" fmla="val 13249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Verdana"/>
              </a:rPr>
              <a:t>Referencing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pronoun, as attribute in clause</a:t>
            </a:r>
            <a:br>
              <a:rPr sz="1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92520" y="3276720"/>
            <a:ext cx="2895840" cy="838080"/>
          </a:xfrm>
          <a:prstGeom prst="wedgeRectCallout">
            <a:avLst>
              <a:gd name="adj1" fmla="val -50546"/>
              <a:gd name="adj2" fmla="val 1420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Attributiv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lause, nominal predicate </a:t>
            </a:r>
            <a:br>
              <a:rPr sz="1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419720" y="4648320"/>
            <a:ext cx="2361960" cy="1160280"/>
          </a:xfrm>
          <a:prstGeom prst="wedgeRectCallout">
            <a:avLst>
              <a:gd name="adj1" fmla="val 35620"/>
              <a:gd name="adj2" fmla="val -1004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00"/>
                </a:solidFill>
                <a:latin typeface="Verdana"/>
              </a:rPr>
              <a:t>Referencing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pronoun, as adverbial in clause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gue Arabic Dependency Treebank: Development in Data and Too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89FF-35A1-4996-B7B8-4FADF406DA0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3, 2004</a:t>
            </a: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Future Prospec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66280" y="158256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mplementation of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unctional Morpholog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Tectogrammatical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anno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exicons of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valency fram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Re-training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the feature-based tagger on MorphoTre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achine-learning on the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reebank data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for various purpo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gue Arabic Dependency Treebank: Development in Data and To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702D-475E-423C-B557-CE111854018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3, 2004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Thank yo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66280" y="158256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Questions welcome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http://ckl.mff.cuni.cz/padt/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gue Arabic Dependency Treebank: Development in Data and To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3B91-3B5E-49E1-A4D4-36A77D8463D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3, 2004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Project Release – PADT 1.0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58256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December 2004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, Linguistic Data Consortiu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148 000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Morpho,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113 500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yntax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723960" y="3343320"/>
          <a:ext cx="7597800" cy="2552760"/>
        </p:xfrm>
        <a:graphic>
          <a:graphicData uri="http://schemas.openxmlformats.org/drawingml/2006/table">
            <a:tbl>
              <a:tblPr/>
              <a:tblGrid>
                <a:gridCol w="934920"/>
                <a:gridCol w="1206720"/>
                <a:gridCol w="1233360"/>
                <a:gridCol w="2376360"/>
                <a:gridCol w="184644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F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 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/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rance Pres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nn ATB 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M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8 5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/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mmah Pres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nn ATB 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I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 5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/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inhua New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Gigawor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 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3 5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-Hayat New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Gigawor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 5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 5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-Nahar New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Gigawor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I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 5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9 5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inhua New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Gigawor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gue Arabic Dependency Treebank: Development in Data and To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0BF4-E6C6-4CD6-A45A-16BAC1ABE5F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3, 2004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Open-Source Tool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58256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TrEd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Tree Edit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ulti-purpose annotation environ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ite of programming ut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Netgraph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earch Engin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er/Client system architect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asy-to-learn query langua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Encode::Arabic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Perl Modu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ension for processing of Arabic scrip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rabTeX, Buckwalter, Unicode, 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gue Arabic Dependency Treebank: Development in Data and To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A8BF-A746-44E0-931D-9DD5C6D8E78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3, 2004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PADT Functional View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58256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Functional Generative Descrip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ory of linguistic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mean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its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express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ague Dependency Treebank for Cze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Independenc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of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representation leve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ectogrammatica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linguistic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ean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nalytica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– surfac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dependenc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syntax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orphologica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categorie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lexical uni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Abstraction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of the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relation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across leve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ict distinction between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form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fun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ifferent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units of descrip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n each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gue Arabic Dependency Treebank: Development in Data and To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73C7-F622-4F29-AB6B-8F6616E53E0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3, 2004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Functional Morpholog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58256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vides syntax levels with their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abstract languag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not just giving letters in toke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vives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multiple sense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of categor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pleteness of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gener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rict modeling of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grammatical 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rphoTrees –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‘human tagging’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Successfu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prototype feature-based tagg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rcRect l="3120" t="40761" r="2674" b="29264"/>
          <a:stretch/>
        </p:blipFill>
        <p:spPr>
          <a:xfrm>
            <a:off x="861840" y="4954680"/>
            <a:ext cx="7608960" cy="103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gue Arabic Dependency Treebank: Development in Data and To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5BF1-6B16-4519-BB8F-F54ED6546CC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3, 2004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504360"/>
            <a:ext cx="80010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Syntactic Levels of Descrip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827244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3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alytical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3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ragmaticall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motivated, close to surface syntax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3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very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ingle toke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resulting from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rphological level forms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ne nod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3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ree-like dependency structure for every senten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3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togrammatical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3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Linguistic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(literal)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aning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deep relations,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F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3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itial structures transformed from 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3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des for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utosemantic word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onl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3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cisive role of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alency fram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gue Arabic Dependency Treebank: Development in Data and To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AAD9-11F9-4CC9-A50F-872EBF15003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3, 2004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Logic of Analytical Tre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557000"/>
            <a:ext cx="8001000" cy="17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cepts of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dependency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valen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Reduction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 sentence must retain grammatical correctness if leave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(terminal nodes) are chopped off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3351600"/>
            <a:ext cx="784872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442800" indent="-442800">
              <a:lnSpc>
                <a:spcPct val="100000"/>
              </a:lnSpc>
              <a:buClr>
                <a:srgbClr val="cc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re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clause component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laus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entenc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aragraphs etc.</a:t>
            </a:r>
            <a:br>
              <a:rPr sz="2400"/>
            </a:b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btrees of clauses exchangeable for non-clau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100000"/>
              </a:lnSpc>
              <a:buClr>
                <a:srgbClr val="cc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od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words, tokenized parts of words, punctuation marks – marked by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100000"/>
              </a:lnSpc>
              <a:buClr>
                <a:srgbClr val="cc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dg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syntactic relations –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verning nod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ependent node/sub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gue Arabic Dependency Treebank: Development in Data and To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BAF8-3CDF-427A-A815-E6AC923F90B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3, 2004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Some Syntax Issues of Arabic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640" y="1628640"/>
            <a:ext cx="825336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lnSpc>
                <a:spcPct val="11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on-verbal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predication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of several typ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44600" indent="-444600">
              <a:lnSpc>
                <a:spcPct val="11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ubordinate non-verbal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clauses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/ modific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44600" indent="-444600">
              <a:lnSpc>
                <a:spcPct val="11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Verb-like behavior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of many nominal form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44600" indent="-444600">
              <a:lnSpc>
                <a:spcPct val="11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ostly VSO in verbal sentences, but…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79560" indent="-35568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ce-versa in non-verbal claus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79560" indent="-35568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ifferent, depending on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context boundne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44600" indent="-444600">
              <a:lnSpc>
                <a:spcPct val="11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mpound verbs, fixed composite preposi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44600" indent="-444600">
              <a:lnSpc>
                <a:spcPct val="11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Grammatical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co-reference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, accusative of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ner object, complex referencing, etc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gue Arabic Dependency Treebank: Development in Data and To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8E7F-5C46-427D-A729-A8F8A9612C5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3, 2004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Problem I: Predic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582560"/>
            <a:ext cx="8326440" cy="43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ead node of tree: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PREDIC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y? Steady role in sentence,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Verdana"/>
              </a:rPr>
              <a:t>cannot be omitt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erbal predicate: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I-go to scho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n-verbal predic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minal: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The-house a-big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=the house is big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istential: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There a-city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(=there is a city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eposition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ssessive: For him a-house (=he has a hous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verbial: The-mosque in the-city (=…is…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junctional: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The-problem that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(=…is that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ague Arabic Dependency Treebank: Development in Data and Too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2F85-496F-486D-AE5A-72E084256AB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3, 2004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0T07:32:24Z</dcterms:created>
  <dc:creator>Q</dc:creator>
  <dc:description/>
  <dc:language>en-US</dc:language>
  <cp:lastModifiedBy>Acer</cp:lastModifiedBy>
  <dcterms:modified xsi:type="dcterms:W3CDTF">2004-10-19T09:46:31Z</dcterms:modified>
  <cp:revision>301</cp:revision>
  <dc:subject/>
  <dc:title>Prague Arabic Dependency Treebank</dc:title>
</cp:coreProperties>
</file>