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1E3-96D5-4698-A926-BB816264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8116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C23-8370-4DEF-BB8C-BB849A6C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568-3516-427D-8107-3303A3A2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578-E8CE-40FA-89A8-AF1986A7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2A4B-DBA7-493B-80F1-B94C65BA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5D04-F664-4587-868D-D438DC46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099C-0645-47B7-87DB-92D5C98F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BE26-027B-4274-911F-54F8A504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BE55-E629-4E0C-811D-FFFB86ED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18900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BE6F-671F-4C3A-8227-9B58D562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B445-C90D-4954-A998-D30460C6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09C-4001-4CEF-BE41-6DEC0B31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0886-9D8D-4141-867A-E1F90B05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AE57-E301-4298-B4F6-E77AD94F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8116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E783-0A44-4621-83EB-60314BA6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6CE1-1A61-4184-A5FD-87BA1B48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D603-3849-43A2-843C-25EC31CD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453-948A-46D6-B4AC-18F9500E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B5C1-4191-4EDE-A1D6-8CCCB9C3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0FB-9064-40E0-B878-EE2942D8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18900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00D-323F-4952-8B6E-B1961E1F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71C-DC11-4E7B-B39D-E9A824BC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BAE-562C-4749-B190-14C41232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039B-8529-4275-8776-98225414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11280" y="141444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093000"/>
            <a:ext cx="79250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16536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42920" y="6165360"/>
            <a:ext cx="403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164360" y="616536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8156-6A4E-4BD7-9493-5400871B7F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602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06C3-892A-4E24-BE1A-65DADC1600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41444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54840" y="4531320"/>
            <a:ext cx="2582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an Haji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č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takar Smr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ž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etr Zemánek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Ja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Šnaidauf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Emanuel Beš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ADT-logo" descr=""/>
          <p:cNvPicPr/>
          <p:nvPr/>
        </p:nvPicPr>
        <p:blipFill>
          <a:blip r:embed="rId2"/>
          <a:stretch/>
        </p:blipFill>
        <p:spPr>
          <a:xfrm>
            <a:off x="657360" y="3787920"/>
            <a:ext cx="121572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20560" y="5021280"/>
            <a:ext cx="80773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ulty of Mathematics and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ulty of Philosophy and 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les 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46400" y="2544840"/>
            <a:ext cx="642600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Development in Data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an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549360"/>
            <a:ext cx="75423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ague Arabic Dependenc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ree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5040" y="6303960"/>
            <a:ext cx="79246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5280" y="4221000"/>
            <a:ext cx="674640" cy="1059120"/>
          </a:xfrm>
          <a:custGeom>
            <a:avLst/>
            <a:gdLst/>
            <a:ahLst/>
            <a:rect l="l" t="t" r="r" b="b"/>
            <a:pathLst>
              <a:path w="425" h="667">
                <a:moveTo>
                  <a:pt x="0" y="0"/>
                </a:moveTo>
                <a:lnTo>
                  <a:pt x="425" y="667"/>
                </a:ln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4640" y="4221000"/>
            <a:ext cx="1592280" cy="1084320"/>
          </a:xfrm>
          <a:custGeom>
            <a:avLst/>
            <a:gdLst/>
            <a:ahLst/>
            <a:rect l="l" t="t" r="r" b="b"/>
            <a:pathLst>
              <a:path w="1003" h="683">
                <a:moveTo>
                  <a:pt x="0" y="0"/>
                </a:moveTo>
                <a:lnTo>
                  <a:pt x="1003" y="683"/>
                </a:ln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7360" y="4365720"/>
            <a:ext cx="1171440" cy="49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- [</a:t>
            </a:r>
            <a:r>
              <a:rPr b="1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redP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2640" y="5445000"/>
            <a:ext cx="978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hu [</a:t>
            </a:r>
            <a:r>
              <a:rPr b="1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Obj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1000" y="5445000"/>
            <a:ext cx="1626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aytun [</a:t>
            </a:r>
            <a:r>
              <a:rPr b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a-house</a:t>
            </a:r>
            <a:r>
              <a:rPr b="0" i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edication Types in Tre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1700280"/>
            <a:ext cx="474480" cy="660240"/>
          </a:xfrm>
          <a:custGeom>
            <a:avLst/>
            <a:gdLst/>
            <a:ahLst/>
            <a:rect l="l" t="t" r="r" b="b"/>
            <a:pathLst>
              <a:path w="299" h="416">
                <a:moveTo>
                  <a:pt x="0" y="0"/>
                </a:moveTo>
                <a:lnTo>
                  <a:pt x="299" y="416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78120" y="2360520"/>
            <a:ext cx="479520" cy="723960"/>
          </a:xfrm>
          <a:custGeom>
            <a:avLst/>
            <a:gdLst/>
            <a:ahLst/>
            <a:rect l="l" t="t" r="r" b="b"/>
            <a:pathLst>
              <a:path w="302" h="456">
                <a:moveTo>
                  <a:pt x="0" y="0"/>
                </a:moveTo>
                <a:lnTo>
                  <a:pt x="302" y="456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8120" y="2360520"/>
            <a:ext cx="1446480" cy="723960"/>
          </a:xfrm>
          <a:custGeom>
            <a:avLst/>
            <a:gdLst/>
            <a:ahLst/>
            <a:rect l="l" t="t" r="r" b="b"/>
            <a:pathLst>
              <a:path w="911" h="456">
                <a:moveTo>
                  <a:pt x="0" y="0"/>
                </a:moveTo>
                <a:lnTo>
                  <a:pt x="911" y="456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78120" y="2360520"/>
            <a:ext cx="3287880" cy="736560"/>
          </a:xfrm>
          <a:custGeom>
            <a:avLst/>
            <a:gdLst/>
            <a:ahLst/>
            <a:rect l="l" t="t" r="r" b="b"/>
            <a:pathLst>
              <a:path w="2071" h="464">
                <a:moveTo>
                  <a:pt x="0" y="0"/>
                </a:moveTo>
                <a:lnTo>
                  <a:pt x="2071" y="464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66000" y="3097080"/>
            <a:ext cx="496800" cy="679680"/>
          </a:xfrm>
          <a:custGeom>
            <a:avLst/>
            <a:gdLst/>
            <a:ahLst/>
            <a:rect l="l" t="t" r="r" b="b"/>
            <a:pathLst>
              <a:path w="313" h="428">
                <a:moveTo>
                  <a:pt x="0" y="0"/>
                </a:moveTo>
                <a:lnTo>
                  <a:pt x="313" y="428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3773520"/>
            <a:ext cx="586080" cy="774720"/>
          </a:xfrm>
          <a:custGeom>
            <a:avLst/>
            <a:gdLst/>
            <a:ahLst/>
            <a:rect l="l" t="t" r="r" b="b"/>
            <a:pathLst>
              <a:path w="369" h="488">
                <a:moveTo>
                  <a:pt x="0" y="0"/>
                </a:moveTo>
                <a:lnTo>
                  <a:pt x="369" y="488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16240" y="1700280"/>
            <a:ext cx="5343480" cy="664920"/>
          </a:xfrm>
          <a:custGeom>
            <a:avLst/>
            <a:gdLst/>
            <a:ahLst/>
            <a:rect l="l" t="t" r="r" b="b"/>
            <a:pathLst>
              <a:path w="3366" h="419">
                <a:moveTo>
                  <a:pt x="0" y="0"/>
                </a:moveTo>
                <a:lnTo>
                  <a:pt x="3366" y="419"/>
                </a:ln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13080" y="1747800"/>
            <a:ext cx="1370160" cy="504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 [</a:t>
            </a:r>
            <a:r>
              <a:rPr b="1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red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la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1680" y="2428920"/>
            <a:ext cx="1365120" cy="452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iqtir</a:t>
            </a:r>
            <a:r>
              <a:rPr b="0" lang="en-US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H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Sb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propos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24440" y="3168720"/>
            <a:ext cx="792000" cy="504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‑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u [</a:t>
            </a:r>
            <a:r>
              <a:rPr b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tr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89520" y="3168720"/>
            <a:ext cx="2003400" cy="466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-Ea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ata [</a:t>
            </a:r>
            <a:r>
              <a:rPr b="1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Obj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-operation</a:t>
            </a:r>
            <a:r>
              <a:rPr b="0" i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acc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05520" y="3168720"/>
            <a:ext cx="1252800" cy="4158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AuxP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32440" y="3889440"/>
            <a:ext cx="1440000" cy="4446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u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’i [</a:t>
            </a:r>
            <a:r>
              <a:rPr b="1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Obj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colleag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29520" y="4392720"/>
            <a:ext cx="771480" cy="439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‑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 [At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45360" y="2449440"/>
            <a:ext cx="1800360" cy="5047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atayni [Adv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wo-hours</a:t>
            </a:r>
            <a:r>
              <a:rPr b="0" i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acc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10920" y="1757520"/>
            <a:ext cx="361800" cy="726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2620800"/>
            <a:ext cx="1654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-baytu [</a:t>
            </a:r>
            <a:r>
              <a:rPr b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-house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1880" y="1901880"/>
            <a:ext cx="1752480" cy="4158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a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un [</a:t>
            </a:r>
            <a:r>
              <a:rPr b="1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nom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a-</a:t>
            </a: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big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09960" y="3500280"/>
            <a:ext cx="1014120" cy="782640"/>
          </a:xfrm>
          <a:custGeom>
            <a:avLst/>
            <a:gdLst/>
            <a:ahLst/>
            <a:rect l="l" t="t" r="r" b="b"/>
            <a:pathLst>
              <a:path w="639" h="493">
                <a:moveTo>
                  <a:pt x="0" y="0"/>
                </a:moveTo>
                <a:lnTo>
                  <a:pt x="639" y="493"/>
                </a:lnTo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68920" y="4968720"/>
            <a:ext cx="1676520" cy="425520"/>
          </a:xfrm>
          <a:custGeom>
            <a:avLst/>
            <a:gdLst/>
            <a:ahLst/>
            <a:rect l="l" t="t" r="r" b="b"/>
            <a:pathLst>
              <a:path w="1056" h="268">
                <a:moveTo>
                  <a:pt x="0" y="0"/>
                </a:moveTo>
                <a:lnTo>
                  <a:pt x="1056" y="268"/>
                </a:lnTo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54520" y="4983120"/>
            <a:ext cx="930240" cy="411120"/>
          </a:xfrm>
          <a:custGeom>
            <a:avLst/>
            <a:gdLst/>
            <a:ahLst/>
            <a:rect l="l" t="t" r="r" b="b"/>
            <a:pathLst>
              <a:path w="586" h="259">
                <a:moveTo>
                  <a:pt x="586" y="0"/>
                </a:moveTo>
                <a:lnTo>
                  <a:pt x="0" y="259"/>
                </a:lnTo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3578400"/>
            <a:ext cx="1727280" cy="5029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m~at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redE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re-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4724280"/>
            <a:ext cx="936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redP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59640" y="5445000"/>
            <a:ext cx="1655640" cy="5112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-madInat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A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dv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-cit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gen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5445000"/>
            <a:ext cx="1873080" cy="50976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-jAmiE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-mosque</a:t>
            </a:r>
            <a:r>
              <a:rPr b="0" i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om</a:t>
            </a:r>
            <a:r>
              <a:rPr b="0" i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3280" y="4365720"/>
            <a:ext cx="1846080" cy="5032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dInatun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a-cit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>
            <a:off x="1908000" y="1699920"/>
            <a:ext cx="6912720" cy="3385080"/>
          </a:xfrm>
          <a:prstGeom prst="curvedConnector5">
            <a:avLst>
              <a:gd name="adj1" fmla="val 25998"/>
              <a:gd name="adj2" fmla="val 50000"/>
              <a:gd name="adj3" fmla="val 25998"/>
            </a:avLst>
          </a:prstGeom>
          <a:ln cap="rnd" w="19080">
            <a:solidFill>
              <a:srgbClr val="cc0000"/>
            </a:solidFill>
            <a:custDash>
              <a:ds d="100000" sp="1000"/>
            </a:custDash>
            <a:miter/>
          </a:ln>
        </p:spPr>
      </p:cxnSp>
      <p:sp>
        <p:nvSpPr>
          <p:cNvPr id="143" name=""/>
          <p:cNvSpPr/>
          <p:nvPr/>
        </p:nvSpPr>
        <p:spPr>
          <a:xfrm flipV="1">
            <a:off x="324000" y="2997000"/>
            <a:ext cx="3311280" cy="431640"/>
          </a:xfrm>
          <a:prstGeom prst="line">
            <a:avLst/>
          </a:prstGeom>
          <a:ln cap="rnd" w="1908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3357720"/>
            <a:ext cx="2763720" cy="2625480"/>
          </a:xfrm>
          <a:custGeom>
            <a:avLst/>
            <a:gdLst/>
            <a:ahLst/>
            <a:rect l="l" t="t" r="r" b="b"/>
            <a:pathLst>
              <a:path w="1741" h="1654">
                <a:moveTo>
                  <a:pt x="0" y="0"/>
                </a:moveTo>
                <a:lnTo>
                  <a:pt x="1741" y="1654"/>
                </a:lnTo>
              </a:path>
            </a:pathLst>
          </a:custGeom>
          <a:noFill/>
          <a:ln cap="rnd" w="19080">
            <a:solidFill>
              <a:srgbClr val="cc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2520" y="4349880"/>
            <a:ext cx="1293840" cy="1319040"/>
          </a:xfrm>
          <a:custGeom>
            <a:avLst/>
            <a:gdLst/>
            <a:ahLst/>
            <a:rect l="l" t="t" r="r" b="b"/>
            <a:pathLst>
              <a:path w="815" h="831">
                <a:moveTo>
                  <a:pt x="0" y="831"/>
                </a:moveTo>
                <a:lnTo>
                  <a:pt x="815" y="0"/>
                </a:lnTo>
              </a:path>
            </a:pathLst>
          </a:custGeom>
          <a:noFill/>
          <a:ln cap="rnd" w="19080">
            <a:solidFill>
              <a:srgbClr val="cc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98680" y="1587600"/>
            <a:ext cx="1798560" cy="863640"/>
          </a:xfrm>
          <a:prstGeom prst="wedgeRectCallout">
            <a:avLst>
              <a:gd name="adj1" fmla="val -49027"/>
              <a:gd name="adj2" fmla="val 882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min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492280"/>
            <a:ext cx="1943280" cy="1081080"/>
          </a:xfrm>
          <a:prstGeom prst="wedgeRectCallout">
            <a:avLst>
              <a:gd name="adj1" fmla="val -53513"/>
              <a:gd name="adj2" fmla="val 965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positi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ossessiv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80000" y="2852640"/>
            <a:ext cx="1798560" cy="863640"/>
          </a:xfrm>
          <a:prstGeom prst="wedgeRectCallout">
            <a:avLst>
              <a:gd name="adj1" fmla="val -49648"/>
              <a:gd name="adj2" fmla="val 919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istenti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4038480"/>
            <a:ext cx="1798560" cy="1224000"/>
          </a:xfrm>
          <a:prstGeom prst="wedgeRectCallout">
            <a:avLst>
              <a:gd name="adj1" fmla="val 58384"/>
              <a:gd name="adj2" fmla="val 790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epositio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adverbial, 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locativ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1268280"/>
            <a:ext cx="1798560" cy="863640"/>
          </a:xfrm>
          <a:prstGeom prst="wedgeRectCallout">
            <a:avLst>
              <a:gd name="adj1" fmla="val -50972"/>
              <a:gd name="adj2" fmla="val 893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b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4572000"/>
            <a:ext cx="2303280" cy="1008000"/>
          </a:xfrm>
          <a:prstGeom prst="wedgeRectCallout">
            <a:avLst>
              <a:gd name="adj1" fmla="val 45384"/>
              <a:gd name="adj2" fmla="val -106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cc00"/>
                </a:solidFill>
                <a:latin typeface="Verdana"/>
              </a:rPr>
              <a:t>Verb-lik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cc00"/>
                </a:solidFill>
                <a:latin typeface="Verdana"/>
              </a:rPr>
              <a:t>behavior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(object of noun?)</a:t>
            </a:r>
            <a:br>
              <a:rPr sz="16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CF07-76A7-4639-9A67-19BF0C31385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oblem II: Clauses &amp; Co-refer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27244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cursivenes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subordinate clause is con-tained as subtree in place of simple el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ad-node of clause get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he same fun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em: non-verbal structures – clauses or no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ound verbs (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A zAl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tc.) treated equal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rammatical co-reference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sonal pro- noun formally required by another el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noun must b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ark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be treated as s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arget of reference is unambiguously identifia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ten in subordinate clauses, mostly attributiv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.: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He-wrote a-book number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its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-pages hund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ADC-8E43-44BB-9E1A-B0D4AD89A9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162840" y="3051000"/>
            <a:ext cx="326880" cy="541440"/>
          </a:xfrm>
          <a:custGeom>
            <a:avLst/>
            <a:gdLst/>
            <a:ahLst/>
            <a:rect l="l" t="t" r="r" b="b"/>
            <a:pathLst>
              <a:path w="206" h="341">
                <a:moveTo>
                  <a:pt x="0" y="0"/>
                </a:moveTo>
                <a:lnTo>
                  <a:pt x="206" y="341"/>
                </a:ln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1752480"/>
            <a:ext cx="349560" cy="1122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5257800"/>
            <a:ext cx="1501560" cy="50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Hw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gramma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5200" y="4330800"/>
            <a:ext cx="157140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umalan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sentenc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acc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62840" y="3060720"/>
            <a:ext cx="961920" cy="531720"/>
          </a:xfrm>
          <a:custGeom>
            <a:avLst/>
            <a:gdLst/>
            <a:ahLst/>
            <a:rect l="l" t="t" r="r" b="b"/>
            <a:pathLst>
              <a:path w="606" h="335">
                <a:moveTo>
                  <a:pt x="0" y="0"/>
                </a:moveTo>
                <a:lnTo>
                  <a:pt x="606" y="335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2773440"/>
            <a:ext cx="1371600" cy="503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tr_PredP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95760" y="1708200"/>
            <a:ext cx="1465200" cy="904680"/>
          </a:xfrm>
          <a:custGeom>
            <a:avLst/>
            <a:gdLst/>
            <a:ahLst/>
            <a:rect l="l" t="t" r="r" b="b"/>
            <a:pathLst>
              <a:path w="923" h="570">
                <a:moveTo>
                  <a:pt x="0" y="0"/>
                </a:moveTo>
                <a:lnTo>
                  <a:pt x="923" y="57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22600"/>
            <a:ext cx="982800" cy="428400"/>
          </a:xfrm>
          <a:custGeom>
            <a:avLst/>
            <a:gdLst/>
            <a:ahLst/>
            <a:rect l="l" t="t" r="r" b="b"/>
            <a:pathLst>
              <a:path w="619" h="270">
                <a:moveTo>
                  <a:pt x="0" y="0"/>
                </a:moveTo>
                <a:lnTo>
                  <a:pt x="619" y="270"/>
                </a:ln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auses &amp; Co-reference in Tree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6400"/>
            <a:ext cx="543240" cy="897120"/>
          </a:xfrm>
          <a:custGeom>
            <a:avLst/>
            <a:gdLst/>
            <a:ahLst/>
            <a:rect l="l" t="t" r="r" b="b"/>
            <a:pathLst>
              <a:path w="342" h="565">
                <a:moveTo>
                  <a:pt x="0" y="0"/>
                </a:moveTo>
                <a:lnTo>
                  <a:pt x="342" y="565"/>
                </a:ln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9360" y="1935000"/>
            <a:ext cx="1752480" cy="416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atab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d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e-wr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4145040"/>
            <a:ext cx="1544760" cy="503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afHatin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tr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pa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gen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54" idx="0"/>
            <a:endCxn id="161" idx="0"/>
          </p:cNvCxnSpPr>
          <p:nvPr/>
        </p:nvCxnSpPr>
        <p:spPr>
          <a:xfrm flipV="1" rot="16200000">
            <a:off x="5334840" y="2447280"/>
            <a:ext cx="980280" cy="1329480"/>
          </a:xfrm>
          <a:prstGeom prst="curvedConnector5">
            <a:avLst>
              <a:gd name="adj1" fmla="val -22336"/>
              <a:gd name="adj2" fmla="val 58234"/>
              <a:gd name="adj3" fmla="val -22336"/>
            </a:avLst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5334120" y="2239920"/>
            <a:ext cx="1247760" cy="492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itAban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j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a-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32680" y="3592440"/>
            <a:ext cx="812880" cy="401760"/>
          </a:xfrm>
          <a:custGeom>
            <a:avLst/>
            <a:gdLst/>
            <a:ahLst/>
            <a:rect l="l" t="t" r="r" b="b"/>
            <a:pathLst>
              <a:path w="512" h="253">
                <a:moveTo>
                  <a:pt x="0" y="0"/>
                </a:moveTo>
                <a:lnTo>
                  <a:pt x="512" y="253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15200" y="3306600"/>
            <a:ext cx="1447920" cy="505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i’at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undr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04640" y="1725120"/>
            <a:ext cx="352440" cy="1133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57480" y="3429000"/>
            <a:ext cx="241452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4571640" y="4419720"/>
            <a:ext cx="243828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438280" y="4723920"/>
            <a:ext cx="152424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048120" y="5028840"/>
            <a:ext cx="91440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3047760" y="5334120"/>
            <a:ext cx="60948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15920" y="1609560"/>
            <a:ext cx="1371600" cy="50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zAlat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d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she-stop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43120" y="2529000"/>
            <a:ext cx="1295280" cy="50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uHis~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tv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she-fe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3505320"/>
            <a:ext cx="1219320" cy="5047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n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uxC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5715000"/>
            <a:ext cx="2210040" cy="3524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‑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tr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_Ref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5334120"/>
            <a:ext cx="838440" cy="5047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h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j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4952880"/>
            <a:ext cx="2057400" cy="5335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ADiHun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tr_Pnom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clea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4038480"/>
            <a:ext cx="1752840" cy="505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uEjib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Obj_Pred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y-imp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2697120"/>
            <a:ext cx="1447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-rajul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Sb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-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ma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75" idx="0"/>
            <a:endCxn id="173" idx="0"/>
          </p:cNvCxnSpPr>
          <p:nvPr/>
        </p:nvCxnSpPr>
        <p:spPr>
          <a:xfrm flipV="1" rot="16200000">
            <a:off x="2504520" y="4647600"/>
            <a:ext cx="1086480" cy="1220040"/>
          </a:xfrm>
          <a:prstGeom prst="curvedConnector5">
            <a:avLst>
              <a:gd name="adj1" fmla="val -12860"/>
              <a:gd name="adj2" fmla="val 96930"/>
              <a:gd name="adj3" fmla="val -12860"/>
            </a:avLst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 flipH="1">
            <a:off x="3169440" y="1631880"/>
            <a:ext cx="42840" cy="1873440"/>
          </a:xfrm>
          <a:custGeom>
            <a:avLst/>
            <a:gdLst/>
            <a:ahLst/>
            <a:rect l="l" t="t" r="r" b="b"/>
            <a:pathLst>
              <a:path w="815" h="831">
                <a:moveTo>
                  <a:pt x="0" y="831"/>
                </a:moveTo>
                <a:lnTo>
                  <a:pt x="815" y="0"/>
                </a:lnTo>
              </a:path>
            </a:pathLst>
          </a:custGeom>
          <a:noFill/>
          <a:ln cap="rnd" w="19080">
            <a:solidFill>
              <a:srgbClr val="cc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220920" y="3539520"/>
            <a:ext cx="5313600" cy="1793880"/>
          </a:xfrm>
          <a:custGeom>
            <a:avLst/>
            <a:gdLst/>
            <a:ahLst/>
            <a:rect l="l" t="t" r="r" b="b"/>
            <a:pathLst>
              <a:path w="815" h="831">
                <a:moveTo>
                  <a:pt x="0" y="831"/>
                </a:moveTo>
                <a:lnTo>
                  <a:pt x="815" y="0"/>
                </a:lnTo>
              </a:path>
            </a:pathLst>
          </a:custGeom>
          <a:noFill/>
          <a:ln cap="rnd" w="19080">
            <a:solidFill>
              <a:srgbClr val="cc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438280" y="4419720"/>
            <a:ext cx="2133720" cy="3045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560" y="844560"/>
            <a:ext cx="2819520" cy="1219320"/>
          </a:xfrm>
          <a:prstGeom prst="wedgeRectCallout">
            <a:avLst>
              <a:gd name="adj1" fmla="val 19875"/>
              <a:gd name="adj2" fmla="val 106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Attributiv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lause, prepositional predicate (adverbial)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514600"/>
            <a:ext cx="2362320" cy="939960"/>
          </a:xfrm>
          <a:prstGeom prst="wedgeRectCallout">
            <a:avLst>
              <a:gd name="adj1" fmla="val -42472"/>
              <a:gd name="adj2" fmla="val 1084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Objectiv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lause, verbal predicate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228600"/>
            <a:ext cx="2667240" cy="1143000"/>
          </a:xfrm>
          <a:prstGeom prst="wedgeRectCallout">
            <a:avLst>
              <a:gd name="adj1" fmla="val -50476"/>
              <a:gd name="adj2" fmla="val 1406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Compound ver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formed as main verb and its complemen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7720" y="1743120"/>
            <a:ext cx="885960" cy="1089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800" y="2995560"/>
            <a:ext cx="1244520" cy="5047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aybab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Zayn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2920" y="2293920"/>
            <a:ext cx="1066680" cy="5047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uxM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n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25760" y="2824200"/>
            <a:ext cx="514080" cy="604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809880"/>
            <a:ext cx="1295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v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_Ref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11880" y="3432240"/>
            <a:ext cx="2361960" cy="1224000"/>
          </a:xfrm>
          <a:prstGeom prst="wedgeRectCallout">
            <a:avLst>
              <a:gd name="adj1" fmla="val -56921"/>
              <a:gd name="adj2" fmla="val 1324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Verdana"/>
              </a:rPr>
              <a:t>Referenc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onoun, as attribute in clause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92520" y="3276720"/>
            <a:ext cx="2895840" cy="838080"/>
          </a:xfrm>
          <a:prstGeom prst="wedgeRectCallout">
            <a:avLst>
              <a:gd name="adj1" fmla="val -50546"/>
              <a:gd name="adj2" fmla="val 1420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Attributiv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lause, nominal predicate 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4648320"/>
            <a:ext cx="2361960" cy="1160280"/>
          </a:xfrm>
          <a:prstGeom prst="wedgeRectCallout">
            <a:avLst>
              <a:gd name="adj1" fmla="val 35620"/>
              <a:gd name="adj2" fmla="val -1004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Verdana"/>
              </a:rPr>
              <a:t>Referenc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onoun, as adverbial in clause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BB06-AE99-4F57-85FB-8595CBA4F3E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uture Prospec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lementation of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unctional Morpholo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Tectogrammatical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nno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xicons of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valency fram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Re-train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he feature-based tagger on MorphoTre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chine-learning on th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reebank dat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or various purpo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216-900B-4089-9161-E2B8FC015B6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Questions welcome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http://ckl.mff.cuni.cz/padt/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097C-DA0B-420D-892A-A6606E6C01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ject Release – PADT 1.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December 200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Linguistic Data Consorti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48 00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Morpho,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13 50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yntax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23960" y="3343320"/>
          <a:ext cx="7597800" cy="2552760"/>
        </p:xfrm>
        <a:graphic>
          <a:graphicData uri="http://schemas.openxmlformats.org/drawingml/2006/table">
            <a:tbl>
              <a:tblPr/>
              <a:tblGrid>
                <a:gridCol w="934920"/>
                <a:gridCol w="1206720"/>
                <a:gridCol w="1233360"/>
                <a:gridCol w="2376360"/>
                <a:gridCol w="18464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F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 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/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e Pres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nn ATB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/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mah Pr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nn ATB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/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inhua New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Gigaw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3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-Hayat New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Gigaw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-Nahar New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Gigaw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inhua New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Gigaw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9E2-8DA8-4EB2-B63B-4708F60A45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Open-Source Too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rE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ree Edi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lti-purpose annotation enviro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ite of programming ut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etgrap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arch Eng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/Client system architec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sy-to-learn query langu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ncode::Arabic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Perl Mo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sion for processing of Arabic scrip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abTeX, Buckwalter, Unicode,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2F3-C186-46A7-A730-B4F060E92A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ADT Functional View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Functional Generative Descrip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ory of linguistic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ean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it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xpres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ague Dependency Treebank for Cze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dependen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presentation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ectogrammatic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linguist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a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alytic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surfac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dependenc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ynta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orphologic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ategori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lexical un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bstrac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th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lation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cross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ict distinction betwee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r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fferen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units of descrip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n each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6B2-2AE9-4FE6-B77C-F84B25C91A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unctional Morpholo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es syntax levels with their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bstract languag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not just giving letters in toke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ves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ultiple sens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catego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leteness of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ene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rict modeling of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rammatical 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rphoTrees –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‘human tagging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uccessfu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rototype feature-based tagg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3120" t="40761" r="2674" b="29264"/>
          <a:stretch/>
        </p:blipFill>
        <p:spPr>
          <a:xfrm>
            <a:off x="861840" y="4954680"/>
            <a:ext cx="7608960" cy="103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11D-6424-4317-A7CE-744B297174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504360"/>
            <a:ext cx="80010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yntactic Levels of Descrip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27244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3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alytical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agmaticall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otivated, close to surface synta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ery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ingle tok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sulting fro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rphological level form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ne n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ee-like dependency structure for every sent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3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togrammatical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inguist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literal)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an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deep relations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F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itial structures transformed from 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des for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utosemantic word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n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isive role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lency fram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445-609B-4BD3-BA71-727E6FB475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ogic of Analytical Tre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557000"/>
            <a:ext cx="80010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s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dependenc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valen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Reduc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sentence must retain grammatical correctness if leav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terminal nodes) are chopped of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3351600"/>
            <a:ext cx="78487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42800" indent="-442800">
              <a:lnSpc>
                <a:spcPct val="100000"/>
              </a:lnSpc>
              <a:buClr>
                <a:srgbClr val="cc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e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lause componen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laus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ntenc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ragraphs etc.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btrees of clauses exchangeable for non-cla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buClr>
                <a:srgbClr val="cc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words, tokenized parts of words, punctuation marks – marked b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buClr>
                <a:srgbClr val="cc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g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syntactic relations –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ing nod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pendent node/su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9C5-CA84-4E82-A7D5-CEEB99C154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ome Syntax Issues of Arab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640" y="1628640"/>
            <a:ext cx="825336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n-verbal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predication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of several typ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ubordinate non-verbal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lause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/ modific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Verb-like behavio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of many nominal for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stly VSO in verbal sentences, but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79560" indent="-3556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ce-versa in non-verbal clau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79560" indent="-3556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fferent, depending o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ntext boundn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ound verbs, fixed composite preposi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ammatical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o-referenc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accusative of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ner object, complex referencing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C90-2E25-485B-A3CC-90FC58D387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blem I: Predic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326440" cy="43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ad node of tree: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PREDIC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y? Steady role in sentence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annot be omit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bal predicate: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-go to scho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-verbal predic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minal: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he-house a-big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=the house is big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istential: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here a-cit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=there is a cit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position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sessive: For him a-house (=he has a hou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verbial: The-mosque in the-city (=…is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junctional: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he-problem tha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=…is tha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D01-8C62-4FBE-A8D0-476E20D748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07:32:24Z</dcterms:created>
  <dc:creator>Q</dc:creator>
  <dc:description/>
  <dc:language>en-US</dc:language>
  <cp:lastModifiedBy>Acer</cp:lastModifiedBy>
  <dcterms:modified xsi:type="dcterms:W3CDTF">2004-10-19T09:46:58Z</dcterms:modified>
  <cp:revision>301</cp:revision>
  <dc:subject/>
  <dc:title>Prague Arabic Dependency Treebank</dc:title>
</cp:coreProperties>
</file>