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7FC-6A2E-48BE-B9F5-D4061EAD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DEE-DD35-4953-8DC2-0240FC9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78D-743D-49C8-B538-7E61CAD3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E65-AE34-44BB-8F9C-1F67A4D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41E-4AD0-4C50-A7D1-9D0076C6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EC7-2042-4C72-A5F4-45D6524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2777-FF46-4057-8FE5-35479AC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FDDA-C9CE-4643-B4D8-3D29543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FE38-C395-4D05-81BF-122D0FB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6C7A-7034-413B-A0BC-54DCD570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2DB7-C232-4285-B944-3020F0E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12A-D772-4236-9579-CC3C72CA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4E7-CF1E-4BDD-9D24-EC58870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976-2BB8-4ED1-8177-BF3B329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8D0A-0CC0-4D61-AB56-B1B8E72C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1CD-A7B4-4FD5-B6A2-D1957E78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9856-922E-4F01-B299-7C4C0685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27F-6015-4DB8-9D4A-DC224A5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9FF-7FBD-45CF-A700-2CFF556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EC8-23BA-4AAF-96DD-7726AE83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E5D-9B65-41D6-A347-480A7B97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FB9-2C8A-49AB-BE41-D3D4133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D48-1466-45CC-8388-F4ECACC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9E5-8EC4-479F-806C-362EA8E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332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058760"/>
            <a:ext cx="422280" cy="474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8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80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241-FE45-4195-94ED-DF8F63EFFE9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776160"/>
            <a:ext cx="9009000" cy="1052640"/>
            <a:chOff x="0" y="7761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884160"/>
              <a:ext cx="711360" cy="474840"/>
              <a:chOff x="290520" y="8841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884160"/>
                <a:ext cx="437400" cy="474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8841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06440"/>
              <a:ext cx="737640" cy="474840"/>
              <a:chOff x="414360" y="13064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06440"/>
                <a:ext cx="42156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064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33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77616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598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2FCA-A31A-47C8-B973-B3996C597A1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</a:rPr>
              <a:t>Arabic Syntactic Trees</a:t>
            </a:r>
            <a:endParaRPr b="1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701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den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krtsk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akar Smr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athematics and Phy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6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fro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Constituency</a:t>
            </a: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 to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  <a:ea typeface="Tahoma"/>
              </a:rPr>
              <a:t>Depend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Sentence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 lam yakun mina ’s-sahli `alay h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wāğah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u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ī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t-tilfizyūni wa `adasāti ’l-muşawwirīn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wa huwa yaş`adu ’l-bāş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was not easy for h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face the television cameras and the lenses of photograph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 he was getting on the b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9CD-E6D1-4F96-9719-7FFDBD177E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ree_colour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58200" cy="47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392-24FB-478F-9219-660ACD19A8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Depend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deptree_colour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7240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697-AC2C-48CE-93B9-9783371620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Evaluation &amp; Conclus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till in progress, fine-tuning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,000 words manually annotated in both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60% of correctly aimed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nd Prague Penn Arabic Treebanking Workshop, May 2003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from dependency to constitu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94-DF53-4922-A59A-470560B6DE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Related Work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ol for assignment of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machine learning (C5-trained decision tre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rate 17% (supposing the topology of the tree is corr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experiments with Arabic dependency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to the process of annotation of 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BA0-3DFF-4CD9-BC1F-76038E242A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tivation &amp; Background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 Arabic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ituent-syntax bracketing ~100k words pu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 from English to Arab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cy approach to syntax ~50k words in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step to tectogrammatical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: co-operation and resource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goal: transform the data from one annotation scheme to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E70-B554-4A02-9D54-74D0D9F82F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X Dependency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rminal nodes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tuent labeling on non-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ts and tr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, University of Pennsyl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ence root node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al function for every tree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 and r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L &amp; IFAL &amp; ICL, Charles University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CCC-A230-48C1-A722-82BA606F023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of the antecedent su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und function of the head of the clause – outer and inner persp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word-order compl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consubtree_01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267080" cy="3805200"/>
          </a:xfrm>
          <a:prstGeom prst="rect">
            <a:avLst/>
          </a:prstGeom>
          <a:ln w="0">
            <a:noFill/>
          </a:ln>
        </p:spPr>
      </p:pic>
      <p:pic>
        <p:nvPicPr>
          <p:cNvPr id="111" name="depsubtree_01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149560" cy="28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F88-BFA4-465A-9E85-774A82F15949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Outline of the Transform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Build temporary dependenc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ction of the input phrase-structur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determined by head selectio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: simple recursiv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Create analytical tree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processing (corrections) of the temporary dep. tree, e.g., substituting traces with trace coindexed fi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rrangement of special complex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Assign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7E5-851D-4BE8-A09F-3931235EB0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Head Selection Func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constituent, select the head constituent among it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tag=PRE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phrase_label=V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hing was selected by the rules, then the rightmost child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86D-19BD-4CEC-9651-50E0C6D1F7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Analytical Function Assign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 and lexical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s the process, does not override previous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_label=NP-SB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S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=wa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fun=Co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_tag=CON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Aux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B60-CB81-4B4F-BA5D-89F944E45A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r-like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subtree_0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21160" cy="4435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240" y="1676520"/>
            <a:ext cx="537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junction of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construc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depsubtree_02" descr=""/>
          <p:cNvPicPr/>
          <p:nvPr/>
        </p:nvPicPr>
        <p:blipFill>
          <a:blip r:embed="rId2"/>
          <a:stretch/>
        </p:blipFill>
        <p:spPr>
          <a:xfrm>
            <a:off x="4876920" y="2662200"/>
            <a:ext cx="3809880" cy="352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9DD-81D3-4B71-92E3-EBF9801622C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consubtree_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286160" cy="4686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1676520"/>
            <a:ext cx="49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expressed subject 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modality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 discrepancies between  descriptions – both in topology and lab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depsubtree_03" descr=""/>
          <p:cNvPicPr/>
          <p:nvPr/>
        </p:nvPicPr>
        <p:blipFill>
          <a:blip r:embed="rId2"/>
          <a:stretch/>
        </p:blipFill>
        <p:spPr>
          <a:xfrm>
            <a:off x="5448240" y="4008600"/>
            <a:ext cx="2400480" cy="23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DF3-0666-4D10-9831-DD20CD48B06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54:20Z</dcterms:modified>
  <cp:revision>32</cp:revision>
  <dc:subject/>
  <dc:title>Prezentace aplikace PowerPoint</dc:title>
</cp:coreProperties>
</file>