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58D-B3AA-481A-A554-30B0D747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02480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B9E-DA54-4967-B104-4F02CDEE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5028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5A3-0C9E-4F5E-B1F8-BAAED9E96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5556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464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5556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464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2FB-7C72-4398-9E79-11943EEE7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E238-06BE-4E99-A3B6-76EDBCA9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7A31-A4EC-4677-9CBD-607A248C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17AA-D658-4FB7-A969-F2B302E7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C2A5-556E-4856-B1CA-91AE156F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82B2-7768-44DB-B5A5-F1B2D699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23D6-F69D-41ED-B9B2-A3E4788D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02A2-4B2F-4995-9D96-0086F8DC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7FF-4FB1-4F38-820C-E12E8CCF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5028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F419-2BBB-4B8B-9070-CD24C639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B589-2460-4FD2-B518-2CC10967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402480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1EE9-3446-4D65-81A4-081D21AF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5028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3064-8D41-40C9-B453-1EA2A54C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5556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5464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5556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5464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F451-3BC9-46D7-9265-8D1220F0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98D6-669B-4F26-A601-9CF3CF96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166A-62FB-4E81-B53F-0262C172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C2E-5E7C-4F2B-AC2B-E80BD839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C1F-CF4B-4E15-ABA4-CEB828C3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1DF7-26EA-487A-9FE2-F73CE2B1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028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FBC-DFAA-456E-9BC3-82C211C7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4F6E-49EC-421D-B824-021FAF47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3324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1058760"/>
            <a:ext cx="422280" cy="474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87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48120" y="63244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80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7D1A-E789-4B8B-AE90-1895722F007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776160"/>
            <a:ext cx="9009000" cy="1052640"/>
            <a:chOff x="0" y="77616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884160"/>
              <a:ext cx="711360" cy="474840"/>
              <a:chOff x="290520" y="88416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884160"/>
                <a:ext cx="437400" cy="474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88416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06440"/>
              <a:ext cx="737640" cy="474840"/>
              <a:chOff x="414360" y="130644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06440"/>
                <a:ext cx="421560" cy="4748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0644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2333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776160"/>
              <a:ext cx="31680" cy="105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5984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AE1D-BB59-4CCE-8250-BDF64E0E1893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00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ahoma"/>
              </a:rPr>
              <a:t>Arabic Syntactic Trees</a:t>
            </a:r>
            <a:endParaRPr b="1" lang="en-US" sz="4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7010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den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ě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okrtsk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takar Smr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er for Computational Lingu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ulty of Mathematics and Phy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les University in Prag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6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  <a:ea typeface="Tahoma"/>
              </a:rPr>
              <a:t>from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Constituency</a:t>
            </a:r>
            <a:r>
              <a:rPr b="1" lang="en-US" sz="3600" spc="-1" strike="noStrike">
                <a:solidFill>
                  <a:srgbClr val="990033"/>
                </a:solidFill>
                <a:latin typeface="Tahoma"/>
                <a:ea typeface="Tahoma"/>
              </a:rPr>
              <a:t> to </a:t>
            </a:r>
            <a:r>
              <a:rPr b="1" lang="en-US" sz="3600" spc="-1" strike="noStrike">
                <a:solidFill>
                  <a:srgbClr val="ff9900"/>
                </a:solidFill>
                <a:latin typeface="Tahoma"/>
                <a:ea typeface="Tahoma"/>
              </a:rPr>
              <a:t>Depend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del Arabic Sentence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a lam yakun mina ’s-sahli `alay h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wāğaha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u 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ā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ī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ā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t-tilfizyūni wa `adasāti ’l-muşawwirīna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wa huwa yaş`adu ’l-bāş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t was not easy for hi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face the television cameras and the lenses of photographer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s he was getting on the b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A167-9F48-444B-A073-2BDDF197FE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onstituency Annotat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contree_colour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458200" cy="475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EA6F-924C-43FC-B41E-4EC60356C7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Dependency Annotat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deptree_colour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772400" cy="47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5604-0587-4742-90DB-026FDA9C9B6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Evaluation &amp; Conclus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till in progress, fine-tuning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,000 words manually annotated in both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60% of correctly aimed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nd Prague Penn Arabic Treebanking Workshop, May 2003 in Pra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from dependency to constituen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18A7-FDD6-4E04-B3B6-3FC26E88FE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Related Work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ol for assignment of analytical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machine learning (C5-trained decision tre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rate 17% (supposing the topology of the tree is correc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experiments with Arabic dependency 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to the process of annotation of Prague Arabic Dependency Tree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C05C-D899-4262-ADA8-6D07B1D843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tivation &amp; Background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guistic Data Consortium Arabic Tree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ituent-syntax bracketing ~100k words pu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cation from English to Arab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ue Arabic Dependency Tree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ency approach to syntax ~50k words in prog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step to tectogrammatical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vation: co-operation and resource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goal: transform the data from one annotation scheme to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520-9C0C-489A-85ED-56BA64DAFD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onstituency X Dependency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10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terminal nodes    + Text to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ituent labeling on non-termi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ts and tr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guistic Data Consortium, University of Pennsylv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19320" y="1676520"/>
            <a:ext cx="421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tence root node    + Text to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al function for every tree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ment and ro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L &amp; IFAL &amp; ICL, Charles University in Pra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375-903D-4390-BB44-FCF77168BAE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del Arabic Phrase I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10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 of the antecedent su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9320" y="1676520"/>
            <a:ext cx="421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und function of the head of the clause – outer and inner perspec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word-order compli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consubtree_01" descr=""/>
          <p:cNvPicPr/>
          <p:nvPr/>
        </p:nvPicPr>
        <p:blipFill>
          <a:blip r:embed="rId1"/>
          <a:stretch/>
        </p:blipFill>
        <p:spPr>
          <a:xfrm>
            <a:off x="457200" y="2519280"/>
            <a:ext cx="4267080" cy="3805200"/>
          </a:xfrm>
          <a:prstGeom prst="rect">
            <a:avLst/>
          </a:prstGeom>
          <a:ln w="0">
            <a:noFill/>
          </a:ln>
        </p:spPr>
      </p:pic>
      <p:pic>
        <p:nvPicPr>
          <p:cNvPr id="111" name="depsubtree_01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149560" cy="2895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10F-4C08-4ADC-A7C2-DE491DDAAAC6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Outline of the Transformat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Build temporary dependency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ction of the input phrase-structur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determined by head selection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: simple recursive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Create analytical tree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processing (corrections) of the temporary dep. tree, e.g., substituting traces with trace coindexed fil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rrangement of special complex constr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Assign analytical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0BE-64B8-4921-B0AD-F34B0A4BF9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Head Selection Funct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constituent, select the head constituent among its child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(ordered) handcrafted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re is a node with tag=PREP among the children, then it is the 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re is a node with phrase_label=VP among the children, then it is the 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etc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hing was selected by the rules, then the rightmost child is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3C0-02B8-47C0-8343-394858E913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Analytical Function Assignment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(ordered) handcrafted rules and lexical 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s the process, does not override previous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rase_label=NP-SB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un=S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mma=wa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fun=Co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_tag=CON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un=Aux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etc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8E1-BA8A-4773-AF4D-3B840018E5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del Arabic Phrase II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10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r-like co-ord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consubtree_02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421160" cy="4435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240" y="1676520"/>
            <a:ext cx="5373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junction of co-ord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 construc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depsubtree_02" descr=""/>
          <p:cNvPicPr/>
          <p:nvPr/>
        </p:nvPicPr>
        <p:blipFill>
          <a:blip r:embed="rId2"/>
          <a:stretch/>
        </p:blipFill>
        <p:spPr>
          <a:xfrm>
            <a:off x="4876920" y="2662200"/>
            <a:ext cx="3809880" cy="3529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F485-7BE7-4EA1-9618-FC80613D2ED9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del Arabic Phrase III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10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consubtree_0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286160" cy="4686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14440" y="1676520"/>
            <a:ext cx="4916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expressed subject (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 modality constr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al discrepancies between  descriptions – both in topology and labe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depsubtree_03" descr=""/>
          <p:cNvPicPr/>
          <p:nvPr/>
        </p:nvPicPr>
        <p:blipFill>
          <a:blip r:embed="rId2"/>
          <a:stretch/>
        </p:blipFill>
        <p:spPr>
          <a:xfrm>
            <a:off x="5448240" y="4008600"/>
            <a:ext cx="2400480" cy="237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C087-4AB3-457E-9798-0EFAE5D38D63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6:06:52Z</dcterms:created>
  <dc:creator>Otakar Smrz</dc:creator>
  <dc:description/>
  <dc:language>en-US</dc:language>
  <cp:lastModifiedBy>Acer</cp:lastModifiedBy>
  <dcterms:modified xsi:type="dcterms:W3CDTF">2004-10-19T09:54:20Z</dcterms:modified>
  <cp:revision>32</cp:revision>
  <dc:subject/>
  <dc:title>Prezentace aplikace PowerPoint</dc:title>
</cp:coreProperties>
</file>