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6F5-3A25-461C-A407-7C0F7FFF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3BE-6217-4651-B109-15CCF0E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775-26FB-44B0-B423-75802E0F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C29-F81D-4559-8160-43BBFFE0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696F-DEF6-49B9-AEBE-389D1D35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18B1-759E-468C-96C5-24843355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72A-EE9D-41A9-807D-652CA24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0F02-C657-4F2F-A238-3C32181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7FCE-64A1-44C4-B349-F2AF17AE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862F-6863-4948-AA50-5D0F79FE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F779-BB28-4EB1-BD94-BFDC0854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1E2-A3B3-4E18-A062-0A3A8E80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811-9B1F-48F1-AF25-F3F9C51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B040-A493-4945-9283-189DAA2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664F-B677-45DE-A4CC-F6A7F8E0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A23E-FB33-4AEF-828B-B1D1B67E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AD80-2763-4023-B583-3C6E5D1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822-7E74-4697-A668-172E597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2B8-9CEE-44BA-938E-92EF51A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820-32D1-49C8-8FAE-8163D31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115-DE7B-4B8C-B4F2-8B691C64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D7C-7E49-4053-88A0-EF8F0C4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EC7-4CDE-4B0B-A3C7-F5A3BD4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2DA-46A1-49CD-BA6A-0CC9877A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332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058760"/>
            <a:ext cx="422280" cy="474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8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80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3C4F-DCCB-4782-B5C6-55D09A2C62C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776160"/>
            <a:ext cx="9009000" cy="1052640"/>
            <a:chOff x="0" y="7761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884160"/>
              <a:ext cx="711360" cy="474840"/>
              <a:chOff x="290520" y="8841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884160"/>
                <a:ext cx="437400" cy="474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8841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06440"/>
              <a:ext cx="737640" cy="474840"/>
              <a:chOff x="414360" y="13064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06440"/>
                <a:ext cx="42156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064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33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77616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598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0E8C-7E3F-4C3A-A0BB-D15DD38EE36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</a:rPr>
              <a:t>Arabic Syntactic Trees</a:t>
            </a:r>
            <a:endParaRPr b="1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701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den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krtsk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akar Smr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athematics and Phy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6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fro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Constituency</a:t>
            </a: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 to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  <a:ea typeface="Tahoma"/>
              </a:rPr>
              <a:t>Depend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Sentence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 lam yakun mina ’s-sahli `alay h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wāğah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u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ī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t-tilfizyūni wa `adasāti ’l-muşawwirīn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wa huwa yaş`adu ’l-bāş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was not easy for h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face the television cameras and the lenses of photograph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 he was getting on the b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599-3F2A-4B7E-965A-2FF3B97201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ree_colour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58200" cy="47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12B-A420-4015-97C0-CD952986AC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Depend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deptree_colour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7240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4B0-4146-48BD-A007-B789775470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Evaluation &amp; Conclus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till in progress, fine-tuning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,000 words manually annotated in both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60% of correctly aimed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nd Prague Penn Arabic Treebanking Workshop, May 2003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from dependency to constitu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810-9241-4A0B-88D4-5C8DA7E431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Related Work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ol for assignment of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machine learning (C5-trained decision tre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rate 17% (supposing the topology of the tree is corr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experiments with Arabic dependency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to the process of annotation of 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E03-8174-4EAC-A2CD-9F942D1033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tivation &amp; Background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 Arabic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ituent-syntax bracketing ~100k words pu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 from English to Arab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cy approach to syntax ~50k words in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step to tectogrammatical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: co-operation and resource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goal: transform the data from one annotation scheme to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CDB-F97B-4460-B47F-501922B2E2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X Dependency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rminal nodes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tuent labeling on non-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ts and tr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, University of Pennsyl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ence root node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al function for every tree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 and r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L &amp; IFAL &amp; ICL, Charles University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4C8-F41E-489E-8EB3-1E4C58D987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of the antecedent su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und function of the head of the clause – outer and inner persp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word-order compl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consubtree_01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267080" cy="3805200"/>
          </a:xfrm>
          <a:prstGeom prst="rect">
            <a:avLst/>
          </a:prstGeom>
          <a:ln w="0">
            <a:noFill/>
          </a:ln>
        </p:spPr>
      </p:pic>
      <p:pic>
        <p:nvPicPr>
          <p:cNvPr id="111" name="depsubtree_01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149560" cy="28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6AF-CC81-407C-8D14-0C5440351C87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Outline of the Transform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Build temporary dependenc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ction of the input phrase-structur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determined by head selectio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: simple recursiv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Create analytical tree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processing (corrections) of the temporary dep. tree, e.g., substituting traces with trace coindexed fi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rrangement of special complex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Assign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EFA-A118-4844-A517-F30180CE6C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Head Selection Func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constituent, select the head constituent among it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tag=PRE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phrase_label=V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hing was selected by the rules, then the rightmost child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073-4DDD-48B1-9C53-137D96A0D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Analytical Function Assign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 and lexical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s the process, does not override previous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_label=NP-SB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S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=wa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fun=Co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_tag=CON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Aux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24A-262B-4E49-BA10-561A926EF1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r-like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subtree_0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21160" cy="4435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240" y="1676520"/>
            <a:ext cx="537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junction of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construc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depsubtree_02" descr=""/>
          <p:cNvPicPr/>
          <p:nvPr/>
        </p:nvPicPr>
        <p:blipFill>
          <a:blip r:embed="rId2"/>
          <a:stretch/>
        </p:blipFill>
        <p:spPr>
          <a:xfrm>
            <a:off x="4876920" y="2662200"/>
            <a:ext cx="3809880" cy="352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B16-0A2E-4E04-A141-B49D5410C158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consubtree_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286160" cy="4686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1676520"/>
            <a:ext cx="49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expressed subject 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modality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 discrepancies between  descriptions – both in topology and lab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depsubtree_03" descr=""/>
          <p:cNvPicPr/>
          <p:nvPr/>
        </p:nvPicPr>
        <p:blipFill>
          <a:blip r:embed="rId2"/>
          <a:stretch/>
        </p:blipFill>
        <p:spPr>
          <a:xfrm>
            <a:off x="5448240" y="4008600"/>
            <a:ext cx="2400480" cy="23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9AA-CDE1-4983-AFA2-8245122C444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54:32Z</dcterms:modified>
  <cp:revision>32</cp:revision>
  <dc:subject/>
  <dc:title>Prezentace aplikace PowerPoint</dc:title>
</cp:coreProperties>
</file>