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67A-BDF3-43DA-AC39-97B8060C2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02480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1BF-A876-49F2-9208-F4173FE6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5028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F162-0D5D-425B-8B9D-36CC31BE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5556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25464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5556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25464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BF1F-2D14-48F7-AEB2-2FA969448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C7D9-2CEA-428C-AA96-6D6E7DCC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94C7-0944-4D9F-9028-6E7DD394E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C18B-C3A9-419C-AA3E-39432FC6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4579-CB5C-4F58-8F70-6FFC2DA99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2226-37F2-4C16-921D-9E71100D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9E12-5BCB-4A6C-BC40-D0083922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BF62-82C5-4A85-90FA-85EA1CF5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115A-9812-4C7F-AFE3-F8CA4B38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5028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92B1-D83E-4350-8D01-EBFD5BA6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1B60-4302-4B0D-9977-1ECA42B7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6840" y="402480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12BCB-1876-49CF-A836-CAB298A4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5028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0DCC-5B05-4FEB-A4FC-7A9A4E680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5556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54640" y="167652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684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5556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54640" y="4024800"/>
            <a:ext cx="27604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AA11-7B3A-460D-938D-DE71BF04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546-B5E2-4C62-A130-DA5AE284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76DD-D6EC-4B35-9BAC-5BB8DF22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910-BD6D-4B8B-A770-E530D6C3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3598-C584-4A25-8D4F-213E59EA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B80-EFBB-4AE1-BBDA-84B90372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50280" y="402480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667B-D2A1-4591-80BA-7204229E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0280" y="1676520"/>
            <a:ext cx="41839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24800"/>
            <a:ext cx="8574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FF9-1795-460F-8DAE-B6114D8F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3324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1058760"/>
            <a:ext cx="422280" cy="4748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587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900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457200" y="632448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048120" y="632448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153280" y="6324480"/>
            <a:ext cx="80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0ECF-AFD7-46E8-9F59-7299ADF5DED4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776160"/>
            <a:ext cx="9009000" cy="1052640"/>
            <a:chOff x="0" y="77616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884160"/>
              <a:ext cx="711360" cy="474840"/>
              <a:chOff x="290520" y="88416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884160"/>
                <a:ext cx="437400" cy="47484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88416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306440"/>
              <a:ext cx="737640" cy="474840"/>
              <a:chOff x="414360" y="130644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306440"/>
                <a:ext cx="421560" cy="4748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30644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2333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776160"/>
              <a:ext cx="31680" cy="1052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5984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029A-7B8C-4B79-B584-BFC958237E2D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00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990099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Tahoma"/>
              </a:rPr>
              <a:t>Arabic Syntactic Trees</a:t>
            </a:r>
            <a:endParaRPr b="1" lang="en-US" sz="40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7010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Zden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ě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okrtsk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takar Smr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er for Computational Linguist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ulty of Mathematics and Phys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les University in Prag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6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  <a:ea typeface="Tahoma"/>
              </a:rPr>
              <a:t>from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  <a:ea typeface="Tahoma"/>
              </a:rPr>
              <a:t>Constituency</a:t>
            </a:r>
            <a:r>
              <a:rPr b="1" lang="en-US" sz="3600" spc="-1" strike="noStrike">
                <a:solidFill>
                  <a:srgbClr val="990033"/>
                </a:solidFill>
                <a:latin typeface="Tahoma"/>
                <a:ea typeface="Tahoma"/>
              </a:rPr>
              <a:t> to </a:t>
            </a:r>
            <a:r>
              <a:rPr b="1" lang="en-US" sz="3600" spc="-1" strike="noStrike">
                <a:solidFill>
                  <a:srgbClr val="ff9900"/>
                </a:solidFill>
                <a:latin typeface="Tahoma"/>
                <a:ea typeface="Tahoma"/>
              </a:rPr>
              <a:t>Depend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Model Arabic Sentence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Wa lam yakun mina ’s-sahli `alay h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wāğaha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u 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ā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ī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ā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’t-tilfizyūni wa `adasāti ’l-muşawwirīna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wa huwa yaş`adu ’l-bāş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t was not easy for him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face the television cameras and the lenses of photographers 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as he was getting on the b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071C-0D71-4880-9A5F-11AD46FF19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Constituency Annotation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contree_colour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458200" cy="475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D185-6A0B-4359-89D2-015C3A8CB8E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Dependency Annotation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deptree_colour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772400" cy="474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5C7-70F9-42C9-8522-250857A3236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Evaluation &amp; Conclusion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till in progress, fine-tuning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,000 words manually annotated in both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60% of correctly aimed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nd Prague Penn Arabic Treebanking Workshop, May 2003 in Prag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from dependency to constituenc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56A6-10D4-43E6-B983-2DA9E391420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Related Work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ol for assignment of analytical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machine learning (C5-trained decision tre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rate 17% (supposing the topology of the tree is correc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experiments with Arabic dependency 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to the process of annotation of Prague Arabic Dependency Treeba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F29-88A5-47CC-A5BA-730BA402B91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Motivation &amp; Background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guistic Data Consortium Arabic Treeba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ituent-syntax bracketing ~100k words pu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ication from English to Arab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ue Arabic Dependency Treeba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ency approach to syntax ~50k words in prog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step to tectogrammatical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tivation: co-operation and resource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goal: transform the data from one annotation scheme to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9B7-C046-41B7-84E0-EB7C1439D7E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Constituency X Dependency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10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terminal nodes    + Text tok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ituent labeling on non-termi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ts and tr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guistic Data Consortium, University of Pennsylva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19320" y="1676520"/>
            <a:ext cx="421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tence root node    + Text tok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al function for every tree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ment and ro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L &amp; IFAL &amp; ICL, Charles University in Prag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D40-F82D-496D-9DBD-28900EB1724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Model Arabic Phrase I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10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e of the antecedent sub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9320" y="1676520"/>
            <a:ext cx="421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und function of the head of the clause – outer and inner perspec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 word-order compli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consubtree_01" descr=""/>
          <p:cNvPicPr/>
          <p:nvPr/>
        </p:nvPicPr>
        <p:blipFill>
          <a:blip r:embed="rId1"/>
          <a:stretch/>
        </p:blipFill>
        <p:spPr>
          <a:xfrm>
            <a:off x="457200" y="2519280"/>
            <a:ext cx="4267080" cy="3805200"/>
          </a:xfrm>
          <a:prstGeom prst="rect">
            <a:avLst/>
          </a:prstGeom>
          <a:ln w="0">
            <a:noFill/>
          </a:ln>
        </p:spPr>
      </p:pic>
      <p:pic>
        <p:nvPicPr>
          <p:cNvPr id="111" name="depsubtree_01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2149560" cy="2895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276B-F215-48D0-95B3-58DD1827738D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Outline of the Transformation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Build temporary dependency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action of the input phrase-structure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determined by head selection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ation: simple recursive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Create analytical tree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processing (corrections) of the temporary dep. tree, e.g., substituting traces with trace coindexed fill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rrangement of special complex constr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 Assign analytical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14F-D0FB-4789-B82D-3DFB97872D7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Head Selection Function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ach constituent, select the head constituent among its child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(ordered) handcrafted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re is a node with tag=PREP among the children, then it is the 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re is a node with phrase_label=VP among the children, then it is the 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etc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hing was selected by the rules, then the rightmost child is sel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84D7-F261-4598-9D22-04EDFAE188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Analytical Function Assignment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74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(ordered) handcrafted rules and lexical l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s the process, does not override previous assig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rase_label=NP-SB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un=S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mma=wa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fun=Co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_tag=CON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un=Aux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 etc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EE7A-5EE3-425A-AE39-4B26451662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Model Arabic Phrase II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10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ter-like co-ord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consubtree_02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4421160" cy="44355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240" y="1676520"/>
            <a:ext cx="5373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junction of co-ord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us construc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depsubtree_02" descr=""/>
          <p:cNvPicPr/>
          <p:nvPr/>
        </p:nvPicPr>
        <p:blipFill>
          <a:blip r:embed="rId2"/>
          <a:stretch/>
        </p:blipFill>
        <p:spPr>
          <a:xfrm>
            <a:off x="4876920" y="2662200"/>
            <a:ext cx="3809880" cy="3529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FC78-3CA1-497C-A9A9-04471BB15C71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ahoma"/>
              </a:rPr>
              <a:t>Model Arabic Phrase III</a:t>
            </a:r>
            <a:endParaRPr b="1" lang="en-US" sz="3600" spc="-1" strike="noStrike">
              <a:solidFill>
                <a:srgbClr val="990033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4210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consubtree_03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286160" cy="46861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14440" y="1676520"/>
            <a:ext cx="4916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expressed subject (?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 modality constr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cipal discrepancies between  descriptions – both in topology and labe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depsubtree_03" descr=""/>
          <p:cNvPicPr/>
          <p:nvPr/>
        </p:nvPicPr>
        <p:blipFill>
          <a:blip r:embed="rId2"/>
          <a:stretch/>
        </p:blipFill>
        <p:spPr>
          <a:xfrm>
            <a:off x="5448240" y="4008600"/>
            <a:ext cx="2400480" cy="2377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rabic Syntactic Trees: from Constituency to Dependenc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7367-FC56-423C-A108-128A657A9439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15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16:06:52Z</dcterms:created>
  <dc:creator>Otakar Smrz</dc:creator>
  <dc:description/>
  <dc:language>en-US</dc:language>
  <cp:lastModifiedBy>Acer</cp:lastModifiedBy>
  <dcterms:modified xsi:type="dcterms:W3CDTF">2004-10-19T09:54:32Z</dcterms:modified>
  <cp:revision>32</cp:revision>
  <dc:subject/>
  <dc:title>Prezentace aplikace PowerPoint</dc:title>
</cp:coreProperties>
</file>